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DF5868-29A2-4557-A763-F68455978BB8}"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30213-89A0-4B18-96B8-F215A8EE5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DCE6CA-950D-4021-BB90-B5FF2113B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45C0A-2424-4139-B04A-D7DC53EA3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63904A-D558-4BF2-B254-3BFBED736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CC411A-1299-4D0B-BB3C-9D7D13C71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E9D54F-BF17-4023-9C37-F1496FCC8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D89145-C780-4004-B849-6C234A811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C85226-F097-4A65-8CE5-0AA757020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0E4E8-1A41-489D-ABE4-18AB2FE4D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0BDCE-426A-48E9-9C53-1D54C4C69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61AF2-698E-40F9-AE09-267C9CBE9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5D1CD-513A-4830-8D82-7F569C4DC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4F52D-4041-4DC3-866E-08B2997D8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B609D-AD6D-46C8-99E6-F4F712764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FC8E8-935B-498C-9934-2F7FD1BA4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E31AA-5537-4100-AA37-400ADA1B2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4BF69-9663-4546-B063-50725CFED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D3150F-5D7A-4A69-9C95-689A7A6D9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6400A-9144-4F49-A2CD-309E9487B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EC4095-3872-4D68-BBDA-CDACDCF40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21AEA2-6A9D-4057-8DE1-C0F1A18EB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383E7-C8FB-44D0-96D1-06A8BD0A2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910283-B19B-4D26-919A-F5DE6A1FC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C85C7-E446-4D55-866B-A32FFE037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58A95D-EDF6-44F9-81CE-6541CFE92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80F9B-E20D-41F8-A558-6DCF61896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90F8F-DEF1-4D09-84A8-1EA3882A2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51743-80AD-4AC0-843F-A35DD83EB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8903E8-3C83-4CE1-9624-EE38C0155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0EDF1E-4A7C-40B1-AFBC-3F41AD4CD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C5E8D-165A-40E1-B27F-D1402A9DB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6246BE-5BFA-4230-A206-AF46374F3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DA264-0B3A-4995-B2B5-72AD353BD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43C42-0C92-4EF5-90EA-E1515381C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A5943F-A21F-41F6-9DED-125F05CD0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C9320-D111-4BBF-9212-9210FBB03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FD8E7C-4D9B-4F14-B5A9-810C8DC0E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35A33D-EECB-4194-9986-169ACE24B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B2114-DB5F-41C4-B2C1-A748715F2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70F2B-CD9F-4585-8A3E-C670B31A4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3CBA5-2447-4E29-BEA4-642B0A0DF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DF30B0-8EDA-428D-BB69-D8C0F479E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7D2B5-D21C-4E28-BBA9-8354F6F7C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61E82-046D-4CE1-8BD1-ACB57E790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B363A2-28A8-4277-99A4-395EFF1B2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F7AA55-147F-4418-BF5A-396B9707E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4B29E9-D093-47EE-B2BF-4516C151D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BB800-8D8D-449F-BED5-D47AC8226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9FDB8-F931-4664-A62A-A2C1B8196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FE71D3-2276-4A7D-A49F-4C9E88ACD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CA48E-CA77-435B-B51A-DDA66DEED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42E23-92CA-457A-B848-987ABF43D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523F38-A811-4277-BDDB-5633AB452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12E063-C875-47C8-95EA-72697A349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42CC3-F552-462A-A5C8-17E1F2CDD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CB127-7513-4C49-9F56-8D7D60556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4AEBE-142A-4EAA-9A68-6614EA3CD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96D49-2622-4D8B-A831-F14B73901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5A1FA-945E-4CE1-B595-773922F41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1F32F-1D6F-4F96-B393-65D4BCAD8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3810B3-0C86-4D68-B266-78A5D2E43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C30CC8-CD74-4E90-A5EB-A40630DB7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479A39-AE35-4F52-B731-300F5910E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0E1E1-BC52-46F1-8656-1E4F74A09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3B54BC-B061-491D-96E8-F21859152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347B8-DECE-48DD-99C5-4DE79A2E1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34977D-1928-41A8-A520-9A96F544B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3C9FCD-B68B-436B-A684-1D563983F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5192E-AFD9-4F6E-91DE-785F1460E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985680" y="741240"/>
            <a:ext cx="4886640" cy="3665520"/>
          </a:xfrm>
          <a:prstGeom prst="rect">
            <a:avLst/>
          </a:prstGeom>
          <a:ln w="0">
            <a:noFill/>
          </a:ln>
        </p:spPr>
      </p:sp>
      <p:sp>
        <p:nvSpPr>
          <p:cNvPr id="14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1C585-CFA6-46F1-835B-FB9D60B01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985680" y="741240"/>
            <a:ext cx="4886640" cy="3665520"/>
          </a:xfrm>
          <a:prstGeom prst="rect">
            <a:avLst/>
          </a:prstGeom>
          <a:ln w="0">
            <a:noFill/>
          </a:ln>
        </p:spPr>
      </p:sp>
      <p:sp>
        <p:nvSpPr>
          <p:cNvPr id="14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333D9-4D09-45E1-827F-B5DC21518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85680" y="741240"/>
            <a:ext cx="4886640" cy="3665520"/>
          </a:xfrm>
          <a:prstGeom prst="rect">
            <a:avLst/>
          </a:prstGeom>
          <a:ln w="0">
            <a:noFill/>
          </a:ln>
        </p:spPr>
      </p:sp>
      <p:sp>
        <p:nvSpPr>
          <p:cNvPr id="14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DF1021-A2BC-4812-A414-E0E81C6D3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985680" y="741240"/>
            <a:ext cx="4886640" cy="3665520"/>
          </a:xfrm>
          <a:prstGeom prst="rect">
            <a:avLst/>
          </a:prstGeom>
          <a:ln w="0">
            <a:noFill/>
          </a:ln>
        </p:spPr>
      </p:sp>
      <p:sp>
        <p:nvSpPr>
          <p:cNvPr id="14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A5DCB-CEF0-4B51-9568-6DE53EE63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44E3BA-D21E-4977-8080-C17982624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69517-1A05-45F1-9D35-16CF8FBD84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7A971DC-BA67-41F8-838E-A1AA6146949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F471874-45B8-486E-9F6B-697F3963A40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C0DC6216-85FF-4634-BE10-AB06FE38908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77DEDE3-2F7A-4C4F-8EFF-30AE5219167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B41B9ED-2D34-40E2-9382-C60022572C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ACAE779-B697-4AA6-8720-788A61325F2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EA0EEAD-5EB2-40AC-929F-96535ED8A6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CA9C0C3-89B3-4796-81D1-318C7A414C9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7664A1B1-48AC-4083-9BBD-04002F19091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51BF4371-34F8-4651-8A2A-A73105EB5DD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121033F-C375-4DCF-8B42-85E43A90B3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96BBDBBC-A662-4F6B-8FC7-635EC1FC1B6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BCFD7A3-8DFE-4F8E-A242-E0B3F7E286A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58FD6AF-C03B-4EEF-B38A-C9C9455777A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2128D61-0841-46C4-BB81-0A35F0517F1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1389FA92-BB20-4426-AE61-11812B05427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B82FBD21-3348-4B56-90E7-CDCD965C3A1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655C531-95AF-4612-995E-5FDC1B3F646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AC56635-36E3-45C6-890C-F7D080BE031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CE869D6-9C22-446A-978F-53D294BDA6D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856E4994-2DC5-47AA-9CC0-D392131655C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1CD8D9CF-69F1-4B02-AAA0-17D1BE67A6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78730A5-C6DD-40A6-BF74-82279C72331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CCBF38AA-C82A-4310-9C42-2C353B06FD5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423A0DC-4EF3-4C88-9590-5F6AE876D0A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A3C3D92-F033-4329-8B4C-22133E72AE2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B6D99D8-E324-4869-A40C-9A8F4E40173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D25C639-2389-457C-906A-CDFFCD1824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00CA4764-4029-44AB-BF2E-5BA995F873D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B9852626-A133-440F-A1E8-AF4F073C132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FC601B4-4034-402E-B5BC-03EBF0CFAF5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A22D868-BF9C-416E-B9B9-CDF436A7393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402CB03-C2D4-4525-8975-16D1B43ABC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4D629F-64C9-43D0-A558-26B488942E7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76F117D-D22B-44FE-9E0A-B13DAA20AD9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DF43E4E9-2EB6-4776-8AC3-0D24D8AB2DB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AEBB8C0B-014E-46B7-901C-E50199D4A83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E185485-B66E-4E26-813C-9FA2D2D1BAA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CBD8518-838F-4248-BC50-31F4948A009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ABE2202-2BBA-45D7-890B-26620749905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F9CE7F1-7AA8-4FA7-BD5B-F585AA15816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D3506C8B-F414-422E-A3CC-BEE8F87D359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92E252AF-7093-42AF-8908-9C480131E88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0F3CFF6-AC72-46C2-9196-6BAE3B9506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540A0B8-1244-408E-BDC8-3C488F53202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4E14F9E-A67F-48E7-B89A-739FB2D1B03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50A10DF-835E-4EFB-BACA-E3A1AE702E4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2A4CA8F1-6FDA-4F38-BE93-9A1D760813F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AC4F707-6355-48AA-B9C1-000749FAE87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B717141-2B72-431D-AE6E-D12A0512819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43FBCD4-7645-4C97-A768-B693D02DCEB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010C18B-CDF1-47E2-B045-92745D0AEC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8F9628E-CBA0-47A5-8884-65F0F1558D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6963192-DCDE-430C-8048-61F6118E7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918BC292-B2DB-4E8C-A5BF-F79B3FBB8B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BBFAD73-53F6-45C0-A89A-01CABB1848A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4A9EABE2-6E1B-4E45-998E-1F094C7E10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9A6452D-6245-4C73-B53C-DB99E710E0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1DC8F60-1716-474D-B3AE-AEBF7EF4FF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281C7B1-D6AA-4D8D-A66F-AA86E06B23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72740A5-7D19-41F0-81CA-5A87E41244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D1078729-6F5D-4618-A030-4567F6F13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3E4A9684-BFA1-470D-BF17-11CC13A42AE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EB6A9F1-1A50-4B01-9C98-FE528650BF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AB5159F-7C9C-49BD-BB9A-508E59DF85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A0FCC0C-5A3D-4EDF-863D-E99CEE125D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74EBA31-7A79-404E-B09F-A6F805CA29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EC02D34-3811-48A2-A1D0-96D37DF5C6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A363E2D-692D-4F7C-852D-720F8FEAC4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553862D-B0E1-4D04-BEA6-7C8D26AA67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CC27883-10F5-490D-8C6D-985BD52EA7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4ED3F27-EF4A-4DA8-AE81-131373C7E1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29BD8E0-6A74-4606-BAAF-400415510FE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68B3C7B-4C40-4FD2-85A4-8F498CFE47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8B7C3B-9E42-459A-A95D-6E7AEAE9FA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C1FAFC-B04F-4603-A9FF-5F8CEE166E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654EEB04-0177-4755-A68D-29099B87C72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4822FA-F976-4368-BE41-9FFE6A0585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06DC7F7-602C-4BFD-AC52-EC44435E80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8E55E2F-3038-4D26-B7F6-25B4361CBD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3FFD514-A1F3-45F0-BCFF-D9F25C698E1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2C7A7A3-CBBE-4915-BB61-A5782105E75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0A4DBDE-2E02-4E65-AE5A-39D482F414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071DAAC-F2B4-4658-A047-A10DD744FC0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D1939C16-AA81-494F-8CED-FAD4561ED9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DDC85EDB-D0E1-4D97-83FF-E47006A4E3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EB0EC6-47B9-4B94-BEA7-DE661A84BD3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FED6CF0-5592-4C8B-9FE8-CA98776CDBD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8693BC7-14A5-4841-944E-82ABFFA455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0650EA4-6A83-4C55-8D01-C26DFB9D9C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6B36542-9063-40BF-910B-D686AED8B86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4A067F7-CFDD-4496-8B91-E14E359AE15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7EFA1B4-7D3F-4847-A769-00E853BEE54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8C01A4E-3238-4BC8-83B0-AAE8476F85F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FC43180-16C2-49CC-B3B3-FAFC8BD552B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3B297D8-143D-4547-A7F0-7A434D814E9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C0D0CE4-BB3A-4764-A078-70553099706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0AAA3D6-86B2-4571-9260-29C86DA9243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3B6E1CC2-7289-4EDA-8432-E72C949DA99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EC010FA-E489-4EDB-8EF1-C90DCD9623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FE5AF4D-A724-4C1A-BC0F-D0040C85D72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9950ACB-0BDC-4683-97E1-BEF46735CFB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12ACBA7-9F7A-46D2-A911-A600391F7D3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A22022E-2713-4DE0-9FC2-EEB01AAABD0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3D0F3D50-017A-4D5E-9B21-AB080DE4B6B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40BDFD0E-6B80-4A60-AC16-E258EB8D3DB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A83DABA-DA72-4DDA-8698-3D8592B650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C066750-A292-4A8F-B404-6F079FDB385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BBC56E5-FA2F-4F53-928B-F15F3FEABDD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0B5EE65-A8C3-4F18-8EA5-9B0C335FFBC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6B57B27-527C-4590-A458-69D4B0491B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A082095-4B53-4D45-8CB1-95898C648FE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959E6C30-B019-4DD5-8FBD-BA47E09A0CA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1BFC35-FB31-4CDA-AC77-DD7A9D9AC9E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ADA17F4-A2AF-48A2-8972-329E4E46F38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4757158-EC16-4322-A5E9-69BB7E77941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90A780D-59BD-4F5A-AD83-D578A5570E2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6CC14E83-9F84-4AD3-B67F-FF1CEC6F766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23881B5F-4F6B-4735-8BD3-2789C2C1F57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6924F77-334E-42F1-BBBE-33DF98D4403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ECE043B-09D2-445E-9F55-23E765A1656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7BFC21F-9321-48DA-BDFF-104271ACC8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5E622AA-9758-4788-9993-E4878F5A12F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D9CA17D-1E6C-4770-8370-B101ED7F1B7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E4FBF6D0-9B87-48F4-BD09-4076706FE80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A0108DA2-9B1F-4DFB-BD11-B3414FE8C2B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CCEB747-83B5-4639-AADE-F00C594C19C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A16DEB2-0ECF-4F00-BDF1-11D1840A2B7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D55FA5A-8158-413A-9141-60852471072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E467053-9C4F-4D0D-BAE2-CBB9FB05CCA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1D978F3-C35E-49DF-A1A7-61E4BFDA183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3655F723-160D-4812-BC96-17423D7DAF0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D492D9C-3192-458A-B7A5-7462C46492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ADB740A-75FB-46D0-83B2-E68827DEDBC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9EC8CDD-232F-4D32-8067-307DF8E7AAE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F8E7146-4C14-4D5F-A68F-2B2158B51C9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37235F7-69B5-4B98-BE47-EBB4E9699A4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D9D6F64-F3E0-48DD-89AA-478B42391FA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4E1AC5B7-BB49-4372-85BB-33C99326F23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69C83ED-CD06-4A9C-8316-0AF3F8BCAC2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0E52343-981B-4B9A-B0F2-2085DB33A44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8995627-C66C-4D69-A329-F58A6D0E9D7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8434D6E-E0B0-4BF7-B438-1206F9CF887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3F1BEC1E-4481-4AEF-A6A6-CAE16C2C4F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5A93BE0-7076-4C5B-911D-4EBF368FDE1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640C94BA-CAD4-475C-955A-9C1F2643035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86B83DB-CF89-4538-BE15-453CB51701E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A595C91-7032-4A9D-8A64-837CCEC3D0F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3DE951B-A60F-4654-AD15-50823BE25F7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4A488FA-0367-41AB-BAE6-8FCE6E3FA3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13BF67FD-5A79-4BAD-98AC-6B33F05409E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E32E59D7-5F38-4669-9A66-CC7EC0FE1C0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C53777A-578C-4637-AB8C-14B10CD860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094FD9C-2D81-44DE-9775-39F4367337C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437B1909-F2FC-4EFD-BBED-AEB1AF72E9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8ADA2-3A81-4C11-A284-C04A52DCE46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08DA5-EB4C-4CDE-B4C2-B2B31739A7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C5900F-3042-43D9-A26B-074FB89CF2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2047A-30C4-4F8C-8216-DCED57959F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5DE152-9862-4904-B827-3EBBC187A48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220C2-EEF8-4C83-B6CA-3CB5DF78C3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F7CFE-F719-478E-8926-4315380E56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70B19-8186-483D-8BC0-7AA91C84FC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C82C6B-0AB4-49BC-9BD2-055C7008D1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B19F5-3392-4FCD-A5B9-5D160C18B5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1CC77-F22A-418A-BFC5-8724B9347C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D1030D-03DD-4360-9502-94FF4ECEAC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B40837-C7F7-4629-94F0-5F3EA1D087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κουλτούρα ενός σχολικού οργανισμού αναπτύσσεται μέσα από τη συμβολή όλων όσων εμπλέκονται στη λειτουργία του, </a:t>
            </a:r>
            <a:br>
              <a:rPr sz="2800"/>
            </a:br>
            <a:r>
              <a:rPr b="0" lang="el-GR" sz="2800" spc="-1" strike="noStrike">
                <a:solidFill>
                  <a:srgbClr val="000000"/>
                </a:solidFill>
                <a:latin typeface="Times New Roman"/>
              </a:rPr>
              <a:t>όπως είναι ο διευθυντής</a:t>
            </a:r>
            <a:r>
              <a:rPr b="0" lang="en-US" sz="2800" spc="-1" strike="noStrike">
                <a:solidFill>
                  <a:srgbClr val="000000"/>
                </a:solidFill>
                <a:latin typeface="Times New Roman"/>
              </a:rPr>
              <a:t> </a:t>
            </a:r>
            <a:r>
              <a:rPr b="0" lang="el-GR" sz="2800" spc="-1" strike="noStrike">
                <a:solidFill>
                  <a:srgbClr val="000000"/>
                </a:solidFill>
                <a:latin typeface="Times New Roman"/>
              </a:rPr>
              <a:t> του σχολείου, </a:t>
            </a:r>
            <a:br>
              <a:rPr sz="2800"/>
            </a:br>
            <a:r>
              <a:rPr b="0" lang="el-GR" sz="2800" spc="-1" strike="noStrike">
                <a:solidFill>
                  <a:srgbClr val="000000"/>
                </a:solidFill>
                <a:latin typeface="Times New Roman"/>
              </a:rPr>
              <a:t>οι εκπαιδευτικοί, το εξειδικευμένο προσωπικό που υπηρετεί στο σχολείο, οι μαθητές και οι γονείς.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95280" y="773280"/>
            <a:ext cx="8353440" cy="503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έννοια της σχολικής κουλτούρας,</a:t>
            </a:r>
            <a:r>
              <a:rPr b="0" lang="el-GR" sz="2800" spc="-1" strike="noStrike">
                <a:solidFill>
                  <a:srgbClr val="000000"/>
                </a:solidFill>
                <a:latin typeface="Times New Roman"/>
              </a:rPr>
              <a:t> η οποία θα μπορούσαμε να πούμε ότι είναι συνώνυμη </a:t>
            </a:r>
            <a:br>
              <a:rPr sz="2800"/>
            </a:br>
            <a:r>
              <a:rPr b="0" lang="el-GR" sz="2800" spc="-1" strike="noStrike">
                <a:solidFill>
                  <a:srgbClr val="000000"/>
                </a:solidFill>
                <a:latin typeface="Times New Roman"/>
              </a:rPr>
              <a:t>με τον όρο «σχολικό κλίμα», </a:t>
            </a:r>
            <a:br>
              <a:rPr sz="2800"/>
            </a:br>
            <a:r>
              <a:rPr b="0" lang="el-GR" sz="2800" spc="-1" strike="noStrike">
                <a:solidFill>
                  <a:srgbClr val="000000"/>
                </a:solidFill>
                <a:latin typeface="Times New Roman"/>
              </a:rPr>
              <a:t>εκφράζει όλα τα εσωτερικά χαρακτηριστικά που συμμετέχουν στη διαμόρφωση της ταυτότητας της σχολικής μονάδας, όπως η ατμόσφαιρα που επικρατεί, </a:t>
            </a:r>
            <a:br>
              <a:rPr sz="2800"/>
            </a:br>
            <a:r>
              <a:rPr b="0" lang="el-GR" sz="2800" spc="-1" strike="noStrike">
                <a:solidFill>
                  <a:srgbClr val="000000"/>
                </a:solidFill>
                <a:latin typeface="Times New Roman"/>
              </a:rPr>
              <a:t>οι ανθρώπινες σχέσεις που αναπτύσσονται μέσα στο συγκεκριμένο πλαίσιο ενός σχολείου </a:t>
            </a:r>
            <a:br>
              <a:rPr sz="2800"/>
            </a:br>
            <a:r>
              <a:rPr b="0" lang="el-GR" sz="2800" spc="-1" strike="noStrike">
                <a:solidFill>
                  <a:srgbClr val="000000"/>
                </a:solidFill>
                <a:latin typeface="Times New Roman"/>
              </a:rPr>
              <a:t>(Ανδρέου &amp; Μαντζούφας, 1999).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95280" y="1938240"/>
            <a:ext cx="8280360" cy="2616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Η κουλτούρα προσδιορίζει τις στάσεις, τις συμπεριφορές, τις αποφάσεις, τις επιλογές και τις προτεραιότητες των συμμετεχόντων σε έναν οργανισμό σε σχέση με ζητήματα κρίσιμης σημασίας (Μπουραντάς, 2005). </a:t>
            </a:r>
            <a:br>
              <a:rPr sz="2400"/>
            </a:b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611280" y="1076400"/>
            <a:ext cx="8064360" cy="43401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Italic"/>
              </a:rPr>
              <a:t>Οι τομείς στους οποίους φαίνεται η θετική επίδραση της σχολικής κουλτούρας είναι </a:t>
            </a:r>
            <a:br>
              <a:rPr sz="2800"/>
            </a:br>
            <a:r>
              <a:rPr b="0" lang="el-GR" sz="2800" spc="-1" strike="noStrike">
                <a:solidFill>
                  <a:srgbClr val="000000"/>
                </a:solidFill>
                <a:latin typeface="Times New Roman"/>
                <a:ea typeface="Times-Italic"/>
              </a:rPr>
              <a:t>η αποτελεσματικότητα και η αποδοτικότητα του σχολικού οργανισμού, </a:t>
            </a:r>
            <a:br>
              <a:rPr sz="2800"/>
            </a:br>
            <a:r>
              <a:rPr b="0" lang="el-GR" sz="2800" spc="-1" strike="noStrike">
                <a:solidFill>
                  <a:srgbClr val="000000"/>
                </a:solidFill>
                <a:latin typeface="Times New Roman"/>
                <a:ea typeface="Times-Italic"/>
              </a:rPr>
              <a:t>Άλλοι τομείς αφορούν τις προσπάθειες για αλλαγή και βελτίωση του σχολείου , οι δραστηριότητες συναδελφικότητας ή συνεργασίας. </a:t>
            </a:r>
            <a:br>
              <a:rPr sz="2800"/>
            </a:br>
            <a:r>
              <a:rPr b="0" lang="el-GR" sz="2800" spc="-1" strike="noStrike">
                <a:solidFill>
                  <a:srgbClr val="000000"/>
                </a:solidFill>
                <a:latin typeface="Times New Roman"/>
                <a:ea typeface="Times-Italic"/>
              </a:rPr>
              <a:t>αλλά και την ταύτιση των μελών του σχολείου με το ίδιο το σχολείο (Χατζηπαναγιώτου, 2008).</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ης κουλτούρας αφορά την υποστήριξη ή παρεμπόδιση ως προς την εφαρμογή μιας στρατηγικής, (π.χ. Παιδαγωγικές και διδακτικές παρεμβάσεις ).</a:t>
            </a:r>
            <a:br>
              <a:rPr sz="2800"/>
            </a:br>
            <a:br>
              <a:rPr sz="2800"/>
            </a:br>
            <a:r>
              <a:rPr b="0" lang="el-GR" sz="2800" spc="-1" strike="noStrike">
                <a:solidFill>
                  <a:srgbClr val="000000"/>
                </a:solidFill>
                <a:latin typeface="Times New Roman"/>
              </a:rPr>
              <a:t>Η κουλτούρα όταν είναι δημιουργική και κατάλληλη συμβάλλει θετικά ενώ όταν είναι ακατάλληλη συμβάλλει αρνητικά στην εφαρμογή στρατηγικών ή την λήψη στρατηγικών αποφάσεων.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υλτούρα ενισχύει και ενδυναμώνει την ατομική πρωτοβουλία και ταυτόχρονα την αυτοπειθαρχία, ενώ περιορίζει την κοινωνική αβεβαιότητα οδηγώντας τους ανθρώπους σε μια κοινή κατεύθυνση και συνεργασία. </a:t>
            </a:r>
            <a:br>
              <a:rPr sz="2800"/>
            </a:br>
            <a:r>
              <a:rPr b="0" lang="el-GR" sz="2800" spc="-1" strike="noStrike">
                <a:solidFill>
                  <a:srgbClr val="000000"/>
                </a:solidFill>
                <a:latin typeface="Times New Roman"/>
              </a:rPr>
              <a:t>Με αυτό τον τρόπο, μπορεί να ενισχύει ή να παρεμποδίζει την συνεχή προσαρμογή και την αλλαγή, στη συγκεκριμένη περίπτωση στο σχολικό περιβάλλον </a:t>
            </a:r>
            <a:br>
              <a:rPr sz="2800"/>
            </a:br>
            <a:r>
              <a:rPr b="0" lang="el-GR" sz="2800" spc="-1" strike="noStrike">
                <a:solidFill>
                  <a:srgbClr val="000000"/>
                </a:solidFill>
                <a:latin typeface="Times New Roman"/>
              </a:rPr>
              <a:t>(Μπουραντάς, 2005).</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395280" y="1711440"/>
            <a:ext cx="8064360" cy="2651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Οι παράγοντες , οι οποίοι σε  σχέση με τη σχολική κουλτούρα  επηρεάζουν την υλοποίηση της ένταξης </a:t>
            </a:r>
            <a:br>
              <a:rPr sz="2800"/>
            </a:br>
            <a:r>
              <a:rPr b="0" lang="el-GR" sz="2800" spc="-1" strike="noStrike">
                <a:solidFill>
                  <a:srgbClr val="000000"/>
                </a:solidFill>
                <a:latin typeface="Times New Roman"/>
                <a:ea typeface="Times-Italic"/>
              </a:rPr>
              <a:t>συμπεριλαμβάνονται </a:t>
            </a:r>
            <a:br>
              <a:rPr sz="2800"/>
            </a:br>
            <a:r>
              <a:rPr b="0" lang="el-GR" sz="2800" spc="-1" strike="noStrike">
                <a:solidFill>
                  <a:srgbClr val="000000"/>
                </a:solidFill>
                <a:latin typeface="Times New Roman"/>
                <a:ea typeface="Times-Italic"/>
              </a:rPr>
              <a:t>οι θεσμικοί και οι προσωπικοί παράγοντες, </a:t>
            </a:r>
            <a:br>
              <a:rPr sz="2800"/>
            </a:br>
            <a:r>
              <a:rPr b="0" lang="el-GR" sz="2800" spc="-1" strike="noStrike">
                <a:solidFill>
                  <a:srgbClr val="000000"/>
                </a:solidFill>
                <a:latin typeface="Times New Roman"/>
                <a:ea typeface="Times-Italic"/>
              </a:rPr>
              <a:t>σύμφωνα με τον </a:t>
            </a:r>
            <a:r>
              <a:rPr b="0" lang="en-US" sz="2800" spc="-1" strike="noStrike">
                <a:solidFill>
                  <a:srgbClr val="000000"/>
                </a:solidFill>
                <a:latin typeface="Times New Roman"/>
                <a:ea typeface="Times-Italic"/>
              </a:rPr>
              <a:t>Thomas</a:t>
            </a:r>
            <a:r>
              <a:rPr b="0" lang="el-GR" sz="2800" spc="-1" strike="noStrike">
                <a:solidFill>
                  <a:srgbClr val="000000"/>
                </a:solidFill>
                <a:latin typeface="Times New Roman"/>
                <a:ea typeface="Times-Italic"/>
              </a:rPr>
              <a:t> </a:t>
            </a:r>
            <a:br>
              <a:rPr sz="2800"/>
            </a:b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395280" y="1482840"/>
            <a:ext cx="8209080" cy="310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Άλλοι παράγοντες, οι οποίοι επηρεάζουν τη σχολική κουλτούρα είναι η σχολική πολιτική, </a:t>
            </a:r>
            <a:br>
              <a:rPr sz="2800"/>
            </a:br>
            <a:r>
              <a:rPr b="0" lang="el-GR" sz="2800" spc="-1" strike="noStrike">
                <a:solidFill>
                  <a:srgbClr val="000000"/>
                </a:solidFill>
                <a:latin typeface="Times New Roman"/>
                <a:ea typeface="Times-Italic"/>
              </a:rPr>
              <a:t>ο τρόπος κατανομής των μαθητών μέσα στην τάξη, δηλ. εάν είναι κανονικά ή μεικτά κατανεμημένοι, </a:t>
            </a:r>
            <a:br>
              <a:rPr sz="2800"/>
            </a:br>
            <a:r>
              <a:rPr b="0" lang="el-GR" sz="2800" spc="-1" strike="noStrike">
                <a:solidFill>
                  <a:srgbClr val="000000"/>
                </a:solidFill>
                <a:latin typeface="Times New Roman"/>
                <a:ea typeface="Times-Italic"/>
              </a:rPr>
              <a:t> οι στάσεις των διευθυντών σε σχέση με την ένταξη,</a:t>
            </a:r>
            <a:br>
              <a:rPr sz="2800"/>
            </a:br>
            <a:r>
              <a:rPr b="0" lang="el-GR" sz="2800" spc="-1" strike="noStrike">
                <a:solidFill>
                  <a:srgbClr val="000000"/>
                </a:solidFill>
                <a:latin typeface="Times New Roman"/>
                <a:ea typeface="Times-Italic"/>
              </a:rPr>
              <a:t>οι στάσεις των εκπαιδευτικών σε σχέση με την ένταξη,</a:t>
            </a:r>
            <a:br>
              <a:rPr sz="2800"/>
            </a:br>
            <a:r>
              <a:rPr b="0" lang="el-GR" sz="2800" spc="-1" strike="noStrike">
                <a:solidFill>
                  <a:srgbClr val="000000"/>
                </a:solidFill>
                <a:latin typeface="Times New Roman"/>
                <a:ea typeface="Times-Italic"/>
              </a:rPr>
              <a:t>οι στάσεις των γονέων σε σχέση με την ένταξη.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90440"/>
            <a:ext cx="9140760" cy="6548400"/>
            <a:chOff x="0" y="190440"/>
            <a:chExt cx="9140760" cy="6548400"/>
          </a:xfrm>
        </p:grpSpPr>
        <p:grpSp>
          <p:nvGrpSpPr>
            <p:cNvPr id="694" name=""/>
            <p:cNvGrpSpPr/>
            <p:nvPr/>
          </p:nvGrpSpPr>
          <p:grpSpPr>
            <a:xfrm>
              <a:off x="0" y="190440"/>
              <a:ext cx="9140760" cy="6548400"/>
              <a:chOff x="0" y="190440"/>
              <a:chExt cx="9140760" cy="6548400"/>
            </a:xfrm>
          </p:grpSpPr>
          <p:sp>
            <p:nvSpPr>
              <p:cNvPr id="695"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468360" y="944640"/>
            <a:ext cx="79912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Περιλαμβάνονται  επίσης οι παράγοντες που σχετίζονται με την ποιότητα των υπηρεσιών που παρέχονται από τον ειδικό παιδαγωγό, </a:t>
            </a:r>
            <a:br>
              <a:rPr sz="2800"/>
            </a:br>
            <a:r>
              <a:rPr b="0" lang="el-GR" sz="2800" spc="-1" strike="noStrike">
                <a:solidFill>
                  <a:srgbClr val="000000"/>
                </a:solidFill>
                <a:latin typeface="Times New Roman"/>
                <a:ea typeface="Times-Italic"/>
              </a:rPr>
              <a:t>το είδος της σχέσης  συνεργασίας ανάμεσα στον εκπαιδευτικό της γενικής και στον εκπαιδευτικό της ειδικής αγωγής, </a:t>
            </a:r>
            <a:br>
              <a:rPr sz="2800"/>
            </a:br>
            <a:r>
              <a:rPr b="0" lang="el-GR" sz="2800" spc="-1" strike="noStrike">
                <a:solidFill>
                  <a:srgbClr val="000000"/>
                </a:solidFill>
                <a:latin typeface="Times New Roman"/>
                <a:ea typeface="Times-Italic"/>
              </a:rPr>
              <a:t>ο ρόλος και οι αρμοδιότητές τους, </a:t>
            </a:r>
            <a:br>
              <a:rPr sz="2800"/>
            </a:br>
            <a:r>
              <a:rPr b="0" lang="el-GR" sz="2800" spc="-1" strike="noStrike">
                <a:solidFill>
                  <a:srgbClr val="000000"/>
                </a:solidFill>
                <a:latin typeface="Times New Roman"/>
                <a:ea typeface="Times-Italic"/>
              </a:rPr>
              <a:t>αλλά και  ο βαθμός αυτοπεποίθησης των εκπαιδευτικών ως προς την επιλογή των κατάλληλων μεθόδων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παράγοντες εκτός σχολικού συστήματος που επηρεάζουν την ένταξη. Τέτοιοι παράγοντες είναι  οι κοινές αξίες που συν-διαμορφώνονται μέσα σε μια σχολική κοινότητα , που επηρεάζουν την αποδοχή της διαφορετικότητας και επομένως, την εφαρμογή της ένταξη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2800"/>
            </a:br>
            <a:br>
              <a:rPr sz="2800"/>
            </a:br>
            <a:r>
              <a:rPr b="1" lang="el-GR" sz="2000" spc="-1" strike="noStrike">
                <a:solidFill>
                  <a:srgbClr val="000099"/>
                </a:solidFill>
                <a:latin typeface="Arial"/>
                <a:ea typeface="Arial"/>
              </a:rPr>
              <a:t>ΕΙΣΗΓΗΤΗΣ: Γούπος Θεόδωρος,  δρ. Παιδαγωγικών</a:t>
            </a:r>
            <a:br>
              <a:rPr sz="2800"/>
            </a:br>
            <a:br>
              <a:rPr sz="28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547640" y="2276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άδειγμα αποτελεί ένα σχολείο που βρίσκεται σε μια πολυπολιτισμική περιοχή στο οποίο φοιτούν μαθητές με εντελώς διαφορετικές εκπαιδευτικές ανάγκες, με αποτέλεσμα η δυσλειτουργία του να θεωρείται από τους εκπαιδευτικούς και τους μαθητές του ως μια άλλη διάσταση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arringt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
          <p:cNvGrpSpPr/>
          <p:nvPr/>
        </p:nvGrpSpPr>
        <p:grpSpPr>
          <a:xfrm>
            <a:off x="0" y="115920"/>
            <a:ext cx="9140760" cy="6548400"/>
            <a:chOff x="0" y="115920"/>
            <a:chExt cx="9140760" cy="6548400"/>
          </a:xfrm>
        </p:grpSpPr>
        <p:grpSp>
          <p:nvGrpSpPr>
            <p:cNvPr id="721" name=""/>
            <p:cNvGrpSpPr/>
            <p:nvPr/>
          </p:nvGrpSpPr>
          <p:grpSpPr>
            <a:xfrm>
              <a:off x="0" y="115920"/>
              <a:ext cx="9140760" cy="6548400"/>
              <a:chOff x="0" y="115920"/>
              <a:chExt cx="9140760" cy="6548400"/>
            </a:xfrm>
          </p:grpSpPr>
          <p:sp>
            <p:nvSpPr>
              <p:cNvPr id="7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
        <p:nvSpPr>
          <p:cNvPr id="728" name=""/>
          <p:cNvSpPr/>
          <p:nvPr/>
        </p:nvSpPr>
        <p:spPr>
          <a:xfrm>
            <a:off x="539640" y="1473120"/>
            <a:ext cx="82090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Για να επιτευχθεί η ένταξη μέσω της σχολικής κουλτούρας, απαραίτητη είναι η εφαρμογή ορισμένων βασικών αρχών. Σύμφωνα με  ερευνητές (</a:t>
            </a:r>
            <a:r>
              <a:rPr b="0" lang="en-US" sz="2800" spc="-1" strike="noStrike">
                <a:solidFill>
                  <a:srgbClr val="000000"/>
                </a:solidFill>
                <a:latin typeface="Times New Roman"/>
                <a:ea typeface="Times-Italic"/>
              </a:rPr>
              <a:t>Humphrey</a:t>
            </a:r>
            <a:r>
              <a:rPr b="0" lang="el-GR" sz="2800" spc="-1" strike="noStrike">
                <a:solidFill>
                  <a:srgbClr val="000000"/>
                </a:solidFill>
                <a:latin typeface="Times New Roman"/>
                <a:ea typeface="Times-Italic"/>
              </a:rPr>
              <a:t> (2008,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βασική αρχή είναι η παρουσία  εκείνων των προσώπων, που αντιμετωπίζουν τον κίνδυνο του αποκλεισμού από δραστηριότητες των συνομιλήκων τους σε ένα κανονικό μαθησιακό πλαίσιο, αποτρέποντας την απόσυρσή τους στις ειδικές τάξεις ή γενικότερα, τις πρακτικές διαχωρισμού. </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 name=""/>
          <p:cNvGrpSpPr/>
          <p:nvPr/>
        </p:nvGrpSpPr>
        <p:grpSpPr>
          <a:xfrm>
            <a:off x="0" y="115920"/>
            <a:ext cx="9140760" cy="6548400"/>
            <a:chOff x="0" y="115920"/>
            <a:chExt cx="9140760" cy="6548400"/>
          </a:xfrm>
        </p:grpSpPr>
        <p:grpSp>
          <p:nvGrpSpPr>
            <p:cNvPr id="730" name=""/>
            <p:cNvGrpSpPr/>
            <p:nvPr/>
          </p:nvGrpSpPr>
          <p:grpSpPr>
            <a:xfrm>
              <a:off x="0" y="115920"/>
              <a:ext cx="9140760" cy="6548400"/>
              <a:chOff x="0" y="115920"/>
              <a:chExt cx="9140760" cy="6548400"/>
            </a:xfrm>
          </p:grpSpPr>
          <p:sp>
            <p:nvSpPr>
              <p:cNvPr id="7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
        <p:nvSpPr>
          <p:cNvPr id="737" name=""/>
          <p:cNvSpPr/>
          <p:nvPr/>
        </p:nvSpPr>
        <p:spPr>
          <a:xfrm>
            <a:off x="539640" y="1511280"/>
            <a:ext cx="7920000" cy="267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Αναγκαία για την ένταξη είναι η αποδοχή, καθώς αναφέρεται στον βαθμό στον οποίο μια κοινότητα ή κοινωνία αναγνωρίζει την διαφορετικότητα και τα δικαιώματα όσων είναι διαφορετικοί λειτουργώντας με τον ίδιο τρόπο σε παρόμοια εκπαιδευτικά και κοινωνικά πλαίσια.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611280" y="1701720"/>
            <a:ext cx="8277120" cy="44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
        <p:nvSpPr>
          <p:cNvPr id="746" name=""/>
          <p:cNvSpPr/>
          <p:nvPr/>
        </p:nvSpPr>
        <p:spPr>
          <a:xfrm>
            <a:off x="395280" y="2465280"/>
            <a:ext cx="820908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Βασική επίσης αρχή είναι η δυνατότητα  συμμετοχής που αναφέρεται στην εμπλοκή μαθητών με εντελώς διαφοροποιημένες ανάγκες και ιδιαιτερότητες  στις μαθησιακές δραστηριότητες και στην ποιότητα των  μαθησιακών εμπειριών.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611280" y="1628640"/>
            <a:ext cx="8277120" cy="446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
        <p:nvSpPr>
          <p:cNvPr id="755" name=""/>
          <p:cNvSpPr/>
          <p:nvPr/>
        </p:nvSpPr>
        <p:spPr>
          <a:xfrm>
            <a:off x="395280" y="2033640"/>
            <a:ext cx="820908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Σημασία έχει και η ποιότητα καθώς σχετίζεται με την επίτευξη υψηλότερου επιπέδου ακαδημαϊκής προόδου των ατόμων με διαφοροποιημένες ανάγκες, ενώ συνδυάζεται με τη βελτίωση των κοινωνικών και συναισθηματικών τους αλλελεπιδράσεων στα πλαίσια της συμπεριληπτικής εκπαίδευσης και της ένταξης (Haihambo &amp; Louis, 2014).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
        <p:nvSpPr>
          <p:cNvPr id="764" name=""/>
          <p:cNvSpPr/>
          <p:nvPr/>
        </p:nvSpPr>
        <p:spPr>
          <a:xfrm>
            <a:off x="971640" y="1603440"/>
            <a:ext cx="74880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Η σχολική μονάδα όπως υποστηρίζει ο </a:t>
            </a:r>
            <a:r>
              <a:rPr b="0" lang="en-US" sz="2800" spc="-1" strike="noStrike">
                <a:solidFill>
                  <a:srgbClr val="000000"/>
                </a:solidFill>
                <a:latin typeface="Times New Roman"/>
                <a:ea typeface="Times-Italic"/>
              </a:rPr>
              <a:t>Weick</a:t>
            </a:r>
            <a:r>
              <a:rPr b="0" lang="el-GR" sz="2800" spc="-1" strike="noStrike">
                <a:solidFill>
                  <a:srgbClr val="000000"/>
                </a:solidFill>
                <a:latin typeface="Times New Roman"/>
                <a:ea typeface="Times-Italic"/>
              </a:rPr>
              <a:t> (1985,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μπορεί να αλλάξει όταν οι ασάφειες στην εκπαιδευτική πολιτική και τις πρακτικές αντιμετωπίζονται από ισχυρούς και επίμονους ανθρώπους με αυτοπεποίθηση, οι οποίοι επιτυγχάνουν να πείσουν τους εαυτούς τους και τους άλλους να υιοθετήσουν νέες πρακτικές που μπορούν να οδηγήσουν  σε νέες συμπεριφορές  και να επηρεάσουν την στην αλλαγή. </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
        <p:nvSpPr>
          <p:cNvPr id="773" name=""/>
          <p:cNvSpPr/>
          <p:nvPr/>
        </p:nvSpPr>
        <p:spPr>
          <a:xfrm>
            <a:off x="395280" y="2249640"/>
            <a:ext cx="806436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Εάν λοιπόν κατά τον </a:t>
            </a:r>
            <a:r>
              <a:rPr b="0" lang="en-US" sz="2800" spc="-1" strike="noStrike">
                <a:solidFill>
                  <a:srgbClr val="000000"/>
                </a:solidFill>
                <a:latin typeface="Times New Roman"/>
                <a:ea typeface="Times-Italic"/>
              </a:rPr>
              <a:t>Scrtic</a:t>
            </a:r>
            <a:r>
              <a:rPr b="0" lang="el-GR" sz="2800" spc="-1" strike="noStrike">
                <a:solidFill>
                  <a:srgbClr val="000000"/>
                </a:solidFill>
                <a:latin typeface="Times New Roman"/>
                <a:ea typeface="Times-Italic"/>
              </a:rPr>
              <a:t> (1991,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παρουσιασθούν  αστοχίες και δυσαρμονίες, οι οποίες έρχονται σε σύγκρουση με το κυρίαρχο εκπαιδευτικό παράδειγμα, μπορεί να εμφανισθεί ένα καινούργιο παράδειγμα, εφ' όσον ταυτόχρονα έχουν αλλάξει οι προτιμήσεις και οι αξίες μιας κοινωνίας.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ές μονάδες που υιοθετούν  μια εξελισσόμενη πορεία είναι δυναμικές γιατί  αναλαμβάνουν την ευθύνη της αλλαγής (</a:t>
            </a:r>
            <a:r>
              <a:rPr b="0" lang="en-US" sz="2800" spc="-1" strike="noStrike">
                <a:solidFill>
                  <a:srgbClr val="000000"/>
                </a:solidFill>
                <a:latin typeface="Times New Roman"/>
              </a:rPr>
              <a:t>Smit</a:t>
            </a:r>
            <a:r>
              <a:rPr b="0" lang="el-GR" sz="2800" spc="-1" strike="noStrike">
                <a:solidFill>
                  <a:srgbClr val="000000"/>
                </a:solidFill>
                <a:latin typeface="Times New Roman"/>
              </a:rPr>
              <a:t>, </a:t>
            </a:r>
            <a:r>
              <a:rPr b="0" lang="en-US" sz="2800" spc="-1" strike="noStrike">
                <a:solidFill>
                  <a:srgbClr val="000000"/>
                </a:solidFill>
                <a:latin typeface="Times New Roman"/>
              </a:rPr>
              <a:t>Moerel</a:t>
            </a:r>
            <a:r>
              <a:rPr b="0" lang="el-GR" sz="2800" spc="-1" strike="noStrike">
                <a:solidFill>
                  <a:srgbClr val="000000"/>
                </a:solidFill>
                <a:latin typeface="Times New Roman"/>
              </a:rPr>
              <a:t>, &amp; </a:t>
            </a:r>
            <a:r>
              <a:rPr b="0" lang="en-US" sz="2800" spc="-1" strike="noStrike">
                <a:solidFill>
                  <a:srgbClr val="000000"/>
                </a:solidFill>
                <a:latin typeface="Times New Roman"/>
              </a:rPr>
              <a:t>Sleegers</a:t>
            </a:r>
            <a:r>
              <a:rPr b="0" lang="el-GR" sz="2800" spc="-1" strike="noStrike">
                <a:solidFill>
                  <a:srgbClr val="000000"/>
                </a:solidFill>
                <a:latin typeface="Times New Roman"/>
              </a:rPr>
              <a:t>, 1999). </a:t>
            </a:r>
            <a:br>
              <a:rPr sz="2800"/>
            </a:br>
            <a:r>
              <a:rPr b="0" lang="el-GR" sz="2800" spc="-1" strike="noStrike">
                <a:solidFill>
                  <a:srgbClr val="000000"/>
                </a:solidFill>
                <a:latin typeface="Times New Roman"/>
              </a:rPr>
              <a:t>Ένα παράδειγμα των αλλαγών που χρειάζονται τα σχολεία αφορά τον τρόπο που οι εκπαιδευτικοί και οι υπόλοιποι εμπλεκόμενοι εκπαιδευτικοί φορείς αντιλαμβάνονται την διαφορετικότητα και ειδικότερα τη σχολική αποτυχία.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ξίες και οι πεποιθήσεις των εκπαιδευτικών είναι πιθανό να ασκούν επίδραση στην καινούργια φιλοσοφία του  σχολικού οργανισμού, που υιοθετεί νέες πρακτικές για την «ένταξη» ή τη «συμπεριληπτική εκπαίδευση». </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539640" y="1819440"/>
            <a:ext cx="820908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σχολική κουλτούρα φαίνεται να αποτελεί τον καθοριστικότερο παράγοντα για την προώθηση της κοινωνικής ένταξης των αμεα στο γενικό σχολείο. </a:t>
            </a:r>
            <a:br>
              <a:rPr sz="2800"/>
            </a:br>
            <a:r>
              <a:rPr b="0" lang="el-GR" sz="2800" spc="-1" strike="noStrike">
                <a:solidFill>
                  <a:srgbClr val="000000"/>
                </a:solidFill>
                <a:latin typeface="Times New Roman"/>
                <a:ea typeface="Calibri"/>
              </a:rPr>
              <a:t>Η κουλτούρα της σχολικής μονάδας αποτελεί μια ουσιώδη παράμετρο για την ανάπτυξη και την ποιοτική αναβάθμιση  της σχολικής μονάδας και έχει άμεση σχέση με την καθοδήγηση του εκπαιδευτικού προσωπικού από το διευθυντή της μονάδας.</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χολική Κουλτούρα</a:t>
            </a:r>
            <a:br>
              <a:rPr sz="2000"/>
            </a:br>
            <a:br>
              <a:rPr sz="2000"/>
            </a:br>
            <a:r>
              <a:rPr b="0" lang="el-GR" sz="2800" spc="-1" strike="noStrike">
                <a:solidFill>
                  <a:srgbClr val="000000"/>
                </a:solidFill>
                <a:latin typeface="Times New Roman"/>
              </a:rPr>
              <a:t>Η Σχολική Κουλτούρα φαίνεται </a:t>
            </a:r>
            <a:br>
              <a:rPr sz="2800"/>
            </a:br>
            <a:r>
              <a:rPr b="0" lang="el-GR" sz="2800" spc="-1" strike="noStrike">
                <a:solidFill>
                  <a:srgbClr val="000000"/>
                </a:solidFill>
                <a:latin typeface="Times New Roman"/>
              </a:rPr>
              <a:t>να αποτελεί τον καθοριστικότερο παράγοντα </a:t>
            </a:r>
            <a:br>
              <a:rPr sz="2800"/>
            </a:br>
            <a:r>
              <a:rPr b="0" lang="el-GR" sz="2800" spc="-1" strike="noStrike">
                <a:solidFill>
                  <a:srgbClr val="000000"/>
                </a:solidFill>
                <a:latin typeface="Times New Roman"/>
              </a:rPr>
              <a:t>για την προώθηση  της κοινωνικής ένταξης </a:t>
            </a:r>
            <a:br>
              <a:rPr sz="2800"/>
            </a:br>
            <a:r>
              <a:rPr b="0" lang="el-GR" sz="2800" spc="-1" strike="noStrike">
                <a:solidFill>
                  <a:srgbClr val="000000"/>
                </a:solidFill>
                <a:latin typeface="Times New Roman"/>
              </a:rPr>
              <a:t>των αμεα στο γενικό σχολείο.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επισημαίνουν οι Κιούση και Κοντάκος (2006) «η έρευνα για τη Σχολική Βελτίωση υποστηρίζει ότι η κουλτούρα ενός εκπαιδευτικού οργανισμού δεν είναι απλά μία συλλογή επιφανειακών ιδιοτήτων αλλά η αντανάκλαση βαθύτερων και βασικότερων υποθέσεων και πεποιθήσεων […]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ποιθήσεις και οι αξίες οι οποίες ενεργοποιούνται, διαμορφώνουν την κουλτούρα του σχολείου και αποτελούν θεμέλιο για την διαδικασία βελτίωσης του εκπαιδευτικού οργανισμού».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0" y="115920"/>
            <a:ext cx="9140760" cy="6548400"/>
            <a:chOff x="0" y="115920"/>
            <a:chExt cx="9140760" cy="6548400"/>
          </a:xfrm>
        </p:grpSpPr>
        <p:grpSp>
          <p:nvGrpSpPr>
            <p:cNvPr id="820" name=""/>
            <p:cNvGrpSpPr/>
            <p:nvPr/>
          </p:nvGrpSpPr>
          <p:grpSpPr>
            <a:xfrm>
              <a:off x="0" y="115920"/>
              <a:ext cx="9140760" cy="6548400"/>
              <a:chOff x="0" y="115920"/>
              <a:chExt cx="9140760" cy="6548400"/>
            </a:xfrm>
          </p:grpSpPr>
          <p:sp>
            <p:nvSpPr>
              <p:cNvPr id="8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
        <p:nvSpPr>
          <p:cNvPr id="827" name=""/>
          <p:cNvSpPr/>
          <p:nvPr/>
        </p:nvSpPr>
        <p:spPr>
          <a:xfrm>
            <a:off x="1042920" y="1819440"/>
            <a:ext cx="7416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υς ερευνητές όπως αναφέρει η Πασιαρδή (2008), η κουλτούρα ορίζεται ως «</a:t>
            </a:r>
            <a:r>
              <a:rPr b="0" i="1" lang="el-GR" sz="2800" spc="-1" strike="noStrike">
                <a:solidFill>
                  <a:srgbClr val="000000"/>
                </a:solidFill>
                <a:latin typeface="Times New Roman"/>
              </a:rPr>
              <a:t>ένα σύστημα κοινών αντιλήψεων που ξεχωρίζει τον ένα οργανισμό από τον άλλο»</a:t>
            </a:r>
            <a:r>
              <a:rPr b="0" lang="el-GR" sz="2800" spc="-1" strike="noStrike">
                <a:solidFill>
                  <a:srgbClr val="000000"/>
                </a:solidFill>
                <a:latin typeface="Times New Roman"/>
              </a:rPr>
              <a:t>,</a:t>
            </a:r>
            <a:br>
              <a:rPr sz="2800"/>
            </a:br>
            <a:r>
              <a:rPr b="0" lang="el-GR" sz="2800" spc="-1" strike="noStrike">
                <a:solidFill>
                  <a:srgbClr val="000000"/>
                </a:solidFill>
                <a:latin typeface="Times New Roman"/>
              </a:rPr>
              <a:t> ή ακόμα και ως </a:t>
            </a:r>
            <a:br>
              <a:rPr sz="2800"/>
            </a:br>
            <a:r>
              <a:rPr b="0" lang="el-GR" sz="2800" spc="-1" strike="noStrike">
                <a:solidFill>
                  <a:srgbClr val="000000"/>
                </a:solidFill>
                <a:latin typeface="Times New Roman"/>
              </a:rPr>
              <a:t>η «</a:t>
            </a:r>
            <a:r>
              <a:rPr b="0" i="1" lang="el-GR" sz="2800" spc="-1" strike="noStrike">
                <a:solidFill>
                  <a:srgbClr val="000000"/>
                </a:solidFill>
                <a:latin typeface="Times New Roman"/>
              </a:rPr>
              <a:t>ιδεολογία του οργανισμού και η οποία περιλαμβάνει τις αντιλήψεις και τις </a:t>
            </a:r>
            <a:r>
              <a:rPr b="0" i="1" lang="el-GR" sz="2800" spc="-1" strike="noStrike">
                <a:solidFill>
                  <a:srgbClr val="000000"/>
                </a:solidFill>
                <a:latin typeface="Times New Roman"/>
                <a:ea typeface="Calibri"/>
              </a:rPr>
              <a:t>συνήθειές του που τον διαφοροποιούν από άλλους οργανισμούς</a:t>
            </a:r>
            <a:r>
              <a:rPr b="0" lang="el-GR" sz="2800" spc="-1" strike="noStrike">
                <a:solidFill>
                  <a:srgbClr val="000000"/>
                </a:solidFill>
                <a:latin typeface="Times New Roman"/>
                <a:ea typeface="Calibri"/>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0" y="115920"/>
            <a:ext cx="9140760" cy="6548400"/>
            <a:chOff x="0" y="115920"/>
            <a:chExt cx="9140760" cy="6548400"/>
          </a:xfrm>
        </p:grpSpPr>
        <p:grpSp>
          <p:nvGrpSpPr>
            <p:cNvPr id="829" name=""/>
            <p:cNvGrpSpPr/>
            <p:nvPr/>
          </p:nvGrpSpPr>
          <p:grpSpPr>
            <a:xfrm>
              <a:off x="0" y="115920"/>
              <a:ext cx="9140760" cy="6548400"/>
              <a:chOff x="0" y="115920"/>
              <a:chExt cx="9140760" cy="6548400"/>
            </a:xfrm>
          </p:grpSpPr>
          <p:sp>
            <p:nvSpPr>
              <p:cNvPr id="8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
        <p:nvSpPr>
          <p:cNvPr id="836" name=""/>
          <p:cNvSpPr/>
          <p:nvPr/>
        </p:nvSpPr>
        <p:spPr>
          <a:xfrm>
            <a:off x="1042920" y="2033640"/>
            <a:ext cx="741672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Κυθραιώτη και συν. (2010) καθορίζουν την κουλτούρα ως την ταυτότητα του σχολικού οργανισμού, καθώς και τους κοινούς προσανατολισμούς του σχολείου που συμβάλλουν στην ενότητά του, όπως είναι οι παραδόσεις, οι κανόνες συμπεριφοράς, οι αξίες και κυρίως το όραμα της σχολικής μονάδας.</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
          <p:cNvGrpSpPr/>
          <p:nvPr/>
        </p:nvGrpSpPr>
        <p:grpSpPr>
          <a:xfrm>
            <a:off x="0" y="115920"/>
            <a:ext cx="9140760" cy="6548400"/>
            <a:chOff x="0" y="115920"/>
            <a:chExt cx="9140760" cy="6548400"/>
          </a:xfrm>
        </p:grpSpPr>
        <p:grpSp>
          <p:nvGrpSpPr>
            <p:cNvPr id="838" name=""/>
            <p:cNvGrpSpPr/>
            <p:nvPr/>
          </p:nvGrpSpPr>
          <p:grpSpPr>
            <a:xfrm>
              <a:off x="0" y="115920"/>
              <a:ext cx="9140760" cy="6548400"/>
              <a:chOff x="0" y="115920"/>
              <a:chExt cx="9140760" cy="6548400"/>
            </a:xfrm>
          </p:grpSpPr>
          <p:sp>
            <p:nvSpPr>
              <p:cNvPr id="8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
        <p:nvSpPr>
          <p:cNvPr id="845" name=""/>
          <p:cNvSpPr/>
          <p:nvPr/>
        </p:nvSpPr>
        <p:spPr>
          <a:xfrm>
            <a:off x="971640" y="2465280"/>
            <a:ext cx="748800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σχολική κουλτούρα δεν είναι  μια στατική αλλά μια δυναμική  διαδικασία λόγω της φύσεώς της και αντανακλά τις πεποιθήσεις, τις αξίες και τα πιστεύω των ατόμων που εργάζονται στο πλαίσιο του σχολείου.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6" name=""/>
          <p:cNvGrpSpPr/>
          <p:nvPr/>
        </p:nvGrpSpPr>
        <p:grpSpPr>
          <a:xfrm>
            <a:off x="0" y="115920"/>
            <a:ext cx="9140760" cy="6548400"/>
            <a:chOff x="0" y="115920"/>
            <a:chExt cx="9140760" cy="6548400"/>
          </a:xfrm>
        </p:grpSpPr>
        <p:grpSp>
          <p:nvGrpSpPr>
            <p:cNvPr id="847" name=""/>
            <p:cNvGrpSpPr/>
            <p:nvPr/>
          </p:nvGrpSpPr>
          <p:grpSpPr>
            <a:xfrm>
              <a:off x="0" y="115920"/>
              <a:ext cx="9140760" cy="6548400"/>
              <a:chOff x="0" y="115920"/>
              <a:chExt cx="9140760" cy="6548400"/>
            </a:xfrm>
          </p:grpSpPr>
          <p:sp>
            <p:nvSpPr>
              <p:cNvPr id="8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
        <p:nvSpPr>
          <p:cNvPr id="854" name=""/>
          <p:cNvSpPr/>
          <p:nvPr/>
        </p:nvSpPr>
        <p:spPr>
          <a:xfrm>
            <a:off x="971640" y="2465280"/>
            <a:ext cx="763272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πεποιθήσεις, οι αξίες και τα πιστεύω είναι που ουσιαστικά κρατούν ενωμένο τον σχολικό οργανισμό, δίνοντάς του μία κοινή ταυτότητα και συμβάλλοντας στη διαμόρφωση του χαρακτήρα του (Πασιαρδή, 2008).</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 </a:t>
            </a:r>
            <a:r>
              <a:rPr b="0" lang="en-US" sz="2800" spc="-1" strike="noStrike">
                <a:solidFill>
                  <a:srgbClr val="000000"/>
                </a:solidFill>
                <a:latin typeface="Times New Roman"/>
              </a:rPr>
              <a:t>Zollers</a:t>
            </a:r>
            <a:r>
              <a:rPr b="0" lang="el-GR" sz="2800" spc="-1" strike="noStrike">
                <a:solidFill>
                  <a:srgbClr val="000000"/>
                </a:solidFill>
                <a:latin typeface="Times New Roman"/>
              </a:rPr>
              <a:t>, </a:t>
            </a:r>
            <a:r>
              <a:rPr b="0" lang="en-US" sz="2800" spc="-1" strike="noStrike">
                <a:solidFill>
                  <a:srgbClr val="000000"/>
                </a:solidFill>
                <a:latin typeface="Times New Roman"/>
              </a:rPr>
              <a:t>Ramanathan </a:t>
            </a:r>
            <a:r>
              <a:rPr b="0" lang="el-GR" sz="2800" spc="-1" strike="noStrike">
                <a:solidFill>
                  <a:srgbClr val="000000"/>
                </a:solidFill>
                <a:latin typeface="Times New Roman"/>
              </a:rPr>
              <a:t>και </a:t>
            </a:r>
            <a:r>
              <a:rPr b="0" lang="en-US" sz="2800" spc="-1" strike="noStrike">
                <a:solidFill>
                  <a:srgbClr val="000000"/>
                </a:solidFill>
                <a:latin typeface="Times New Roman"/>
              </a:rPr>
              <a:t>Yu</a:t>
            </a:r>
            <a:r>
              <a:rPr b="0" lang="el-GR" sz="2800" spc="-1" strike="noStrike">
                <a:solidFill>
                  <a:srgbClr val="000000"/>
                </a:solidFill>
                <a:latin typeface="Times New Roman"/>
              </a:rPr>
              <a:t>) με τον όρο σχολική κουλτούρα αναφέρονται </a:t>
            </a:r>
            <a:br>
              <a:rPr sz="2800"/>
            </a:br>
            <a:r>
              <a:rPr b="1" lang="el-GR" sz="2800" spc="-1" strike="noStrike">
                <a:solidFill>
                  <a:srgbClr val="000000"/>
                </a:solidFill>
                <a:latin typeface="Times New Roman"/>
              </a:rPr>
              <a:t>στις αξίες, τις στάσεις και τους κανόνες συμπεριφοράς που διέπουν τη λειτουργία μιας σχολικής μονάδα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σκοπό την προαγωγή ενός κοινού και λειτουργικού τρόπου διαχείρισης της σχολικής καθημερινότητας και των δυσκολιών που τυχόν προκύπτουν</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4" name=""/>
          <p:cNvGrpSpPr/>
          <p:nvPr/>
        </p:nvGrpSpPr>
        <p:grpSpPr>
          <a:xfrm>
            <a:off x="0" y="115920"/>
            <a:ext cx="9140760" cy="6548400"/>
            <a:chOff x="0" y="115920"/>
            <a:chExt cx="9140760" cy="6548400"/>
          </a:xfrm>
        </p:grpSpPr>
        <p:grpSp>
          <p:nvGrpSpPr>
            <p:cNvPr id="865" name=""/>
            <p:cNvGrpSpPr/>
            <p:nvPr/>
          </p:nvGrpSpPr>
          <p:grpSpPr>
            <a:xfrm>
              <a:off x="0" y="115920"/>
              <a:ext cx="9140760" cy="6548400"/>
              <a:chOff x="0" y="115920"/>
              <a:chExt cx="9140760" cy="6548400"/>
            </a:xfrm>
          </p:grpSpPr>
          <p:sp>
            <p:nvSpPr>
              <p:cNvPr id="8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1" name="" descr=""/>
          <p:cNvPicPr/>
          <p:nvPr/>
        </p:nvPicPr>
        <p:blipFill>
          <a:blip r:embed="rId3"/>
          <a:stretch/>
        </p:blipFill>
        <p:spPr>
          <a:xfrm>
            <a:off x="250920" y="333360"/>
            <a:ext cx="1417680" cy="879480"/>
          </a:xfrm>
          <a:prstGeom prst="rect">
            <a:avLst/>
          </a:prstGeom>
          <a:ln w="0">
            <a:noFill/>
          </a:ln>
        </p:spPr>
      </p:pic>
      <p:sp>
        <p:nvSpPr>
          <p:cNvPr id="872" name=""/>
          <p:cNvSpPr/>
          <p:nvPr/>
        </p:nvSpPr>
        <p:spPr>
          <a:xfrm>
            <a:off x="755640" y="1484280"/>
            <a:ext cx="7812000" cy="4110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αμόρφωση της σχολικής κουλτούρας από τους εμπλεκόμενους ενήλικες (εκπαιδευτικούς, γονείς, υποστηρικτικό εκπαιδευτικό και βοηθητικό προσωπικό) 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αντιστοιχούν στην αντίστοιχη τοπική κοινωνία</a:t>
            </a:r>
            <a:r>
              <a:rPr b="0" lang="el-GR" sz="1200" spc="-1" strike="noStrike">
                <a:solidFill>
                  <a:srgbClr val="000000"/>
                </a:solidFill>
                <a:latin typeface="Times New Roman"/>
                <a:ea typeface="Calibri"/>
              </a:rPr>
              <a:t>.</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125360"/>
            <a:ext cx="8280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μόρφωση της σχολικής κουλτούρας </a:t>
            </a:r>
            <a:br>
              <a:rPr sz="2800"/>
            </a:br>
            <a:r>
              <a:rPr b="0" lang="el-GR" sz="2800" spc="-1" strike="noStrike">
                <a:solidFill>
                  <a:srgbClr val="000000"/>
                </a:solidFill>
                <a:latin typeface="Times New Roman"/>
              </a:rPr>
              <a:t>από τους εμπλεκόμενους ενήλικες </a:t>
            </a:r>
            <a:br>
              <a:rPr sz="2800"/>
            </a:br>
            <a:r>
              <a:rPr b="0" lang="el-GR" sz="2800" spc="-1" strike="noStrike">
                <a:solidFill>
                  <a:srgbClr val="000000"/>
                </a:solidFill>
                <a:latin typeface="Times New Roman"/>
              </a:rPr>
              <a:t>(εκπαιδευτικούς, γονείς, υποστηρικτικό  εκπαιδευτικό και βοηθητικό προσωπικό) </a:t>
            </a:r>
            <a:br>
              <a:rPr sz="2800"/>
            </a:br>
            <a:r>
              <a:rPr b="0" lang="el-GR" sz="2800" spc="-1" strike="noStrike">
                <a:solidFill>
                  <a:srgbClr val="000000"/>
                </a:solidFill>
                <a:latin typeface="Times New Roman"/>
              </a:rPr>
              <a:t>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κυριαρχούν στην αντίστοιχη τοπική κοινωνία. </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ροσδιορισμός των χαρακτηριστικών που διέπουν την κουλτούρα ενός σχολείου </a:t>
            </a:r>
            <a:br>
              <a:rPr sz="2800"/>
            </a:br>
            <a:r>
              <a:rPr b="0" lang="el-GR" sz="2800" spc="-1" strike="noStrike">
                <a:solidFill>
                  <a:srgbClr val="000000"/>
                </a:solidFill>
                <a:latin typeface="Times New Roman"/>
              </a:rPr>
              <a:t>φαίνεται πως γίνεται σε δύο επίπεδα. </a:t>
            </a:r>
            <a:br>
              <a:rPr sz="2800"/>
            </a:br>
            <a:br>
              <a:rPr sz="2800"/>
            </a:br>
            <a:r>
              <a:rPr b="1" lang="el-GR" sz="2800" spc="-1" strike="noStrike">
                <a:solidFill>
                  <a:srgbClr val="000000"/>
                </a:solidFill>
                <a:latin typeface="Times New Roman"/>
              </a:rPr>
              <a:t>Το πρώτο επίπεδο(το δηλωτικό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φορά τις αναφορές και τη συμπεριφορά των εμπλεκομένων</a:t>
            </a:r>
            <a:br>
              <a:rPr sz="2800"/>
            </a:br>
            <a:r>
              <a:rPr b="0" lang="el-GR" sz="2800" spc="-1" strike="noStrike">
                <a:solidFill>
                  <a:srgbClr val="000000"/>
                </a:solidFill>
                <a:latin typeface="Times New Roman"/>
              </a:rPr>
              <a:t>ενώ το </a:t>
            </a:r>
            <a:r>
              <a:rPr b="1" lang="el-GR" sz="2800" spc="-1" strike="noStrike">
                <a:solidFill>
                  <a:srgbClr val="000000"/>
                </a:solidFill>
                <a:latin typeface="Times New Roman"/>
              </a:rPr>
              <a:t>δεύτερο επίπεδο</a:t>
            </a:r>
            <a:r>
              <a:rPr b="0" lang="el-GR" sz="2800" spc="-1" strike="noStrike">
                <a:solidFill>
                  <a:srgbClr val="000000"/>
                </a:solidFill>
                <a:latin typeface="Times New Roman"/>
              </a:rPr>
              <a:t>, (άδηλο), </a:t>
            </a:r>
            <a:br>
              <a:rPr sz="2800"/>
            </a:br>
            <a:r>
              <a:rPr b="0" lang="el-GR" sz="2800" spc="-1" strike="noStrike">
                <a:solidFill>
                  <a:srgbClr val="000000"/>
                </a:solidFill>
                <a:latin typeface="Times New Roman"/>
              </a:rPr>
              <a:t>αφορά την ερμηνεία  και τους λόγους για τους οποίους εκδηλώνονται οι συγκεκριμένες συμπεριφορές.</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την εύρυθμη λειτουργία ενός εκπαιδευτικού οργανισμού  βαρύνουσα σημασία έχει </a:t>
            </a:r>
            <a:r>
              <a:rPr b="1" lang="el-GR" sz="2800" spc="-1" strike="noStrike">
                <a:solidFill>
                  <a:srgbClr val="000000"/>
                </a:solidFill>
                <a:latin typeface="Times New Roman"/>
              </a:rPr>
              <a:t>η σχολική κουλτούρα που επικρατεί σε έναν εκπαιδευτικό οργανισμό.</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Η κουλτούρ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διαδικασίες ένταξης, </a:t>
            </a:r>
            <a:br>
              <a:rPr sz="2800"/>
            </a:br>
            <a:r>
              <a:rPr b="0" lang="el-GR" sz="2800" spc="-1" strike="noStrike">
                <a:solidFill>
                  <a:srgbClr val="000000"/>
                </a:solidFill>
                <a:latin typeface="Times New Roman"/>
              </a:rPr>
              <a:t>διαστάσεις της σχολικής κουλτούρας, </a:t>
            </a:r>
            <a:br>
              <a:rPr sz="2800"/>
            </a:br>
            <a:r>
              <a:rPr b="0" lang="el-GR" sz="2800" spc="-1" strike="noStrike">
                <a:solidFill>
                  <a:srgbClr val="000000"/>
                </a:solidFill>
                <a:latin typeface="Times New Roman"/>
              </a:rPr>
              <a:t>όπως οι πεποιθήσεις και οι στάσεις των εκπαιδευτικών </a:t>
            </a:r>
            <a:br>
              <a:rPr sz="2800"/>
            </a:br>
            <a:r>
              <a:rPr b="0" lang="el-GR" sz="2800" spc="-1" strike="noStrike">
                <a:solidFill>
                  <a:srgbClr val="000000"/>
                </a:solidFill>
                <a:latin typeface="Times New Roman"/>
              </a:rPr>
              <a:t>για τον ρόλο και τις ευθύνες τους,</a:t>
            </a:r>
            <a:br>
              <a:rPr sz="2800"/>
            </a:br>
            <a:r>
              <a:rPr b="0" lang="el-GR" sz="2800" spc="-1" strike="noStrike">
                <a:solidFill>
                  <a:srgbClr val="000000"/>
                </a:solidFill>
                <a:latin typeface="Times New Roman"/>
              </a:rPr>
              <a:t>επηρεάζουν άμεσα και καθοριστικά </a:t>
            </a:r>
            <a:br>
              <a:rPr sz="2800"/>
            </a:br>
            <a:r>
              <a:rPr b="0" lang="el-GR" sz="2800" spc="-1" strike="noStrike">
                <a:solidFill>
                  <a:srgbClr val="000000"/>
                </a:solidFill>
                <a:latin typeface="Times New Roman"/>
              </a:rPr>
              <a:t>την ποιότητα αλλά και τη μορφή υποστήριξης των</a:t>
            </a:r>
            <a:br>
              <a:rPr sz="2800"/>
            </a:br>
            <a:r>
              <a:rPr b="0" lang="el-GR" sz="2800" spc="-1" strike="noStrike">
                <a:solidFill>
                  <a:srgbClr val="000000"/>
                </a:solidFill>
                <a:latin typeface="Times New Roman"/>
              </a:rPr>
              <a:t>μαθητών με ειδικές εκπαιδευτικές ανάγκε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γίνεται φανερό πως </a:t>
            </a:r>
            <a:br>
              <a:rPr sz="2800"/>
            </a:br>
            <a:r>
              <a:rPr b="0" lang="el-GR" sz="2800" spc="-1" strike="noStrike">
                <a:solidFill>
                  <a:srgbClr val="000000"/>
                </a:solidFill>
                <a:latin typeface="Times New Roman"/>
              </a:rPr>
              <a:t>ενώ οι ενταξιακές διαδικασίες ορίζονται από τα εκάστοτε προωθούμενα μοντέλα ένταξης , </a:t>
            </a:r>
            <a:br>
              <a:rPr sz="2800"/>
            </a:br>
            <a:r>
              <a:rPr b="0" lang="el-GR" sz="2800" spc="-1" strike="noStrike">
                <a:solidFill>
                  <a:srgbClr val="000000"/>
                </a:solidFill>
                <a:latin typeface="Times New Roman"/>
              </a:rPr>
              <a:t>στην </a:t>
            </a:r>
            <a:r>
              <a:rPr b="1" lang="el-GR" sz="2800" spc="-1" strike="noStrike">
                <a:solidFill>
                  <a:srgbClr val="000000"/>
                </a:solidFill>
                <a:latin typeface="Times New Roman"/>
              </a:rPr>
              <a:t>πρά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ορίζονται και αναπτύσσονται </a:t>
            </a:r>
            <a:br>
              <a:rPr sz="2800"/>
            </a:br>
            <a:r>
              <a:rPr b="0" lang="el-GR" sz="2800" spc="-1" strike="noStrike">
                <a:solidFill>
                  <a:srgbClr val="000000"/>
                </a:solidFill>
                <a:latin typeface="Times New Roman"/>
              </a:rPr>
              <a:t>με βάση τη κουλτούρα και το δυναμικό </a:t>
            </a:r>
            <a:br>
              <a:rPr sz="2800"/>
            </a:br>
            <a:r>
              <a:rPr b="0" lang="el-GR" sz="2800" spc="-1" strike="noStrike">
                <a:solidFill>
                  <a:srgbClr val="000000"/>
                </a:solidFill>
                <a:latin typeface="Times New Roman"/>
              </a:rPr>
              <a:t>της  σχολικής μονάδας.</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95280" y="1052640"/>
            <a:ext cx="8280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ίδραση της σχολικής κουλτούρας αναδεικνύεται ειδικότερα στις περιπτώσεις που οι πολιτικές</a:t>
            </a:r>
            <a:br>
              <a:rPr sz="2800"/>
            </a:br>
            <a:r>
              <a:rPr b="0" lang="el-GR" sz="2800" spc="-1" strike="noStrike">
                <a:solidFill>
                  <a:srgbClr val="000000"/>
                </a:solidFill>
                <a:latin typeface="Times New Roman"/>
              </a:rPr>
              <a:t>αναφορικά με την ένταξη των μαθητών με αναπηρία είναι ασαφείς και δεν προσδιορίζονται επαρκώς. </a:t>
            </a:r>
            <a:br>
              <a:rPr sz="2800"/>
            </a:br>
            <a:br>
              <a:rPr sz="2800"/>
            </a:br>
            <a:r>
              <a:rPr b="0" lang="el-GR" sz="2800" spc="-1" strike="noStrike">
                <a:solidFill>
                  <a:srgbClr val="000000"/>
                </a:solidFill>
                <a:latin typeface="Times New Roman"/>
              </a:rPr>
              <a:t>Σε αυτές τις περιπτώσεις, η επιτυχής συνύπαρξη του</a:t>
            </a:r>
            <a:br>
              <a:rPr sz="2800"/>
            </a:br>
            <a:r>
              <a:rPr b="0" lang="el-GR" sz="2800" spc="-1" strike="noStrike">
                <a:solidFill>
                  <a:srgbClr val="000000"/>
                </a:solidFill>
                <a:latin typeface="Times New Roman"/>
              </a:rPr>
              <a:t>μαθητικού πληθυσμού εξαρτάται κυρίως από το είδος της σχολικής κουλτούρας</a:t>
            </a:r>
            <a:br>
              <a:rPr sz="2800"/>
            </a:br>
            <a:r>
              <a:rPr b="0" lang="el-GR" sz="2800" spc="-1" strike="noStrike">
                <a:solidFill>
                  <a:srgbClr val="000000"/>
                </a:solidFill>
                <a:latin typeface="Times New Roman"/>
              </a:rPr>
              <a:t> που διέπει κάθε σχολική μονάδα.  </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για παράδειγμα, οι εμπλεκόμενοι επαγγελματίες (εκπαιδευτικοί, γονείς,</a:t>
            </a:r>
            <a:br>
              <a:rPr sz="2800"/>
            </a:br>
            <a:r>
              <a:rPr b="0" lang="el-GR" sz="2800" spc="-1" strike="noStrike">
                <a:solidFill>
                  <a:srgbClr val="000000"/>
                </a:solidFill>
                <a:latin typeface="Times New Roman"/>
              </a:rPr>
              <a:t>υποστηρικτικό εκπαιδευτικό και </a:t>
            </a:r>
            <a:br>
              <a:rPr sz="2800"/>
            </a:br>
            <a:r>
              <a:rPr b="0" lang="el-GR" sz="2800" spc="-1" strike="noStrike">
                <a:solidFill>
                  <a:srgbClr val="000000"/>
                </a:solidFill>
                <a:latin typeface="Times New Roman"/>
              </a:rPr>
              <a:t>βοηθητικό προσωπικό) </a:t>
            </a:r>
            <a:br>
              <a:rPr sz="2800"/>
            </a:br>
            <a:r>
              <a:rPr b="0" lang="el-GR" sz="2800" spc="-1" strike="noStrike">
                <a:solidFill>
                  <a:srgbClr val="000000"/>
                </a:solidFill>
                <a:latin typeface="Times New Roman"/>
              </a:rPr>
              <a:t>διαθέτουν αυτοπεποίθηση, επιμονή και είναι «ανοιχτοί» και φιλικοί να υιοθετήσουν νέες πρακτικές και μεθόδους, οι διαδικασίες ένταξης παρουσιάζονται ως αποτελεσματικές.</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11600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125360"/>
            <a:ext cx="84978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αντίθετη περίπτωση, </a:t>
            </a:r>
            <a:br>
              <a:rPr sz="2800"/>
            </a:br>
            <a:r>
              <a:rPr b="0" lang="el-GR" sz="2800" spc="-1" strike="noStrike">
                <a:solidFill>
                  <a:srgbClr val="000000"/>
                </a:solidFill>
                <a:latin typeface="Times New Roman"/>
              </a:rPr>
              <a:t>που οι εμπλεκόμενοι δεν είναι πρόθυμοι για αλλαγές, </a:t>
            </a:r>
            <a:br>
              <a:rPr sz="2800"/>
            </a:br>
            <a:r>
              <a:rPr b="0" lang="el-GR" sz="2800" spc="-1" strike="noStrike">
                <a:solidFill>
                  <a:srgbClr val="000000"/>
                </a:solidFill>
                <a:latin typeface="Times New Roman"/>
              </a:rPr>
              <a:t>οι διαδικασίες ένταξης των αμεα στο γενικό σχολείο </a:t>
            </a:r>
            <a:br>
              <a:rPr sz="2800"/>
            </a:br>
            <a:r>
              <a:rPr b="0" lang="el-GR" sz="2800" spc="-1" strike="noStrike">
                <a:solidFill>
                  <a:srgbClr val="000000"/>
                </a:solidFill>
                <a:latin typeface="Times New Roman"/>
              </a:rPr>
              <a:t>δεν είναι αποτελεσματικές.</a:t>
            </a:r>
            <a:br>
              <a:rPr sz="2800"/>
            </a:br>
            <a:br>
              <a:rPr sz="28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95280" y="1125360"/>
            <a:ext cx="84978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λοιπόν, πως δύο </a:t>
            </a:r>
            <a:br>
              <a:rPr sz="2800"/>
            </a:br>
            <a:r>
              <a:rPr b="0" lang="el-GR" sz="2800" spc="-1" strike="noStrike">
                <a:solidFill>
                  <a:srgbClr val="000000"/>
                </a:solidFill>
                <a:latin typeface="Times New Roman"/>
              </a:rPr>
              <a:t>είναι τα κυρίαρχα είδη  σχολικής κουλτούρας </a:t>
            </a:r>
            <a:br>
              <a:rPr sz="2800"/>
            </a:br>
            <a:r>
              <a:rPr b="0" lang="el-GR" sz="2800" spc="-1" strike="noStrike">
                <a:solidFill>
                  <a:srgbClr val="000000"/>
                </a:solidFill>
                <a:latin typeface="Times New Roman"/>
              </a:rPr>
              <a:t>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2985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αραδοσιακή σχολική κουλτούρα</a:t>
            </a:r>
            <a:br>
              <a:rPr sz="2800"/>
            </a:br>
            <a:r>
              <a:rPr b="0" lang="el-GR" sz="2800" spc="-1" strike="noStrike">
                <a:solidFill>
                  <a:srgbClr val="000000"/>
                </a:solidFill>
                <a:latin typeface="Times New Roman"/>
              </a:rPr>
              <a:t> έχει γνωσιοκεντρικό προσανατολισμό και </a:t>
            </a:r>
            <a:br>
              <a:rPr sz="2800"/>
            </a:br>
            <a:r>
              <a:rPr b="0" lang="el-GR" sz="2800" spc="-1" strike="noStrike">
                <a:solidFill>
                  <a:srgbClr val="000000"/>
                </a:solidFill>
                <a:latin typeface="Times New Roman"/>
              </a:rPr>
              <a:t>δίνει έμφαση στις επιδόσεις και </a:t>
            </a:r>
            <a:br>
              <a:rPr sz="2800"/>
            </a:br>
            <a:r>
              <a:rPr b="0" lang="el-GR" sz="2800" spc="-1" strike="noStrike">
                <a:solidFill>
                  <a:srgbClr val="000000"/>
                </a:solidFill>
                <a:latin typeface="Times New Roman"/>
              </a:rPr>
              <a:t>την ακαδημαϊκή πορεία του μαθητή και </a:t>
            </a:r>
            <a:br>
              <a:rPr sz="2800"/>
            </a:br>
            <a:r>
              <a:rPr b="0" lang="el-GR" sz="2800" spc="-1" strike="noStrike">
                <a:solidFill>
                  <a:srgbClr val="000000"/>
                </a:solidFill>
                <a:latin typeface="Times New Roman"/>
              </a:rPr>
              <a:t>όχι στις ξεχωριστές του ανάγκες. </a:t>
            </a:r>
            <a:br>
              <a:rPr sz="2800"/>
            </a:br>
            <a:r>
              <a:rPr b="0" lang="el-GR" sz="2800" spc="-1" strike="noStrike">
                <a:solidFill>
                  <a:srgbClr val="000000"/>
                </a:solidFill>
                <a:latin typeface="Times New Roman"/>
              </a:rPr>
              <a:t>Ο αυστηρά ιεραρχικά δομημένος χαρακτήρας του σχολείου που υιοθετεί την παραδοσιακή σχολική νοοτροπία δεν επιτρέπει τη διαχείριση των διαφορετικών</a:t>
            </a:r>
            <a:br>
              <a:rPr sz="2800"/>
            </a:br>
            <a:r>
              <a:rPr b="0" lang="el-GR" sz="2800" spc="-1" strike="noStrike">
                <a:solidFill>
                  <a:srgbClr val="000000"/>
                </a:solidFill>
                <a:latin typeface="Times New Roman"/>
              </a:rPr>
              <a:t>εκπαιδευτικών αναγκών.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εστιάζει σε ένα </a:t>
            </a:r>
            <a:br>
              <a:rPr sz="2800"/>
            </a:br>
            <a:r>
              <a:rPr b="0" lang="el-GR" sz="2800" spc="-1" strike="noStrike">
                <a:solidFill>
                  <a:srgbClr val="000000"/>
                </a:solidFill>
                <a:latin typeface="Times New Roman"/>
              </a:rPr>
              <a:t>συγκεκριμένο πρόγραμμα σπουδών,</a:t>
            </a:r>
            <a:br>
              <a:rPr sz="2800"/>
            </a:br>
            <a:r>
              <a:rPr b="0" lang="el-GR" sz="2800" spc="-1" strike="noStrike">
                <a:solidFill>
                  <a:srgbClr val="000000"/>
                </a:solidFill>
                <a:latin typeface="Times New Roman"/>
              </a:rPr>
              <a:t>που οι εκπαιδευτικοί καλούνται να ακολουθήσουν δουλεύοντας  απομονωμένοι </a:t>
            </a:r>
            <a:br>
              <a:rPr sz="2800"/>
            </a:br>
            <a:r>
              <a:rPr b="0" lang="el-GR" sz="2800" spc="-1" strike="noStrike">
                <a:solidFill>
                  <a:srgbClr val="000000"/>
                </a:solidFill>
                <a:latin typeface="Times New Roman"/>
              </a:rPr>
              <a:t>ο ένας από τον άλλο.</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που εφαρμόζονται προγράμματα συνύπαρξης μαθητών γενικών και ειδικών τάξεων, η ευθύνη για τους μαθητές με αναπηρία μεταφέρεται από</a:t>
            </a:r>
            <a:br>
              <a:rPr sz="2800"/>
            </a:br>
            <a:r>
              <a:rPr b="0" lang="el-GR" sz="2800" spc="-1" strike="noStrike">
                <a:solidFill>
                  <a:srgbClr val="000000"/>
                </a:solidFill>
                <a:latin typeface="Times New Roman"/>
              </a:rPr>
              <a:t>τον εκπαιδευτικό γενικής εκπαίδευσης στο ειδικό εκπαιδευτικό προσωπικό και εστιάζεται στην προαγωγή ακαδημαϊκών δεξιοτήτων χωρίς να υπάρχει ενδιαφέρον και</a:t>
            </a:r>
            <a:br>
              <a:rPr sz="2800"/>
            </a:br>
            <a:r>
              <a:rPr b="0" lang="el-GR" sz="2800" spc="-1" strike="noStrike">
                <a:solidFill>
                  <a:srgbClr val="000000"/>
                </a:solidFill>
                <a:latin typeface="Times New Roman"/>
              </a:rPr>
              <a:t>προσανατολισμός για την ανάπτυξη μεθόδων και τεχνικών που θα προάγουν την κοινωνική και συναισθηματική ανάπτυξη των συμμετεχόντων μαθητών.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a:t>
            </a:r>
            <a:r>
              <a:rPr b="1" lang="el-GR" sz="2800" spc="-1" strike="noStrike">
                <a:solidFill>
                  <a:srgbClr val="000000"/>
                </a:solidFill>
                <a:latin typeface="Times New Roman"/>
              </a:rPr>
              <a:t>η εναλλακτική σχολική κουλτούρα </a:t>
            </a:r>
            <a:br>
              <a:rPr sz="2800"/>
            </a:br>
            <a:r>
              <a:rPr b="0" lang="el-GR" sz="2800" spc="-1" strike="noStrike">
                <a:solidFill>
                  <a:srgbClr val="000000"/>
                </a:solidFill>
                <a:latin typeface="Times New Roman"/>
              </a:rPr>
              <a:t>προσπαθεί να αποδίδει ενεργητικό ρόλο </a:t>
            </a:r>
            <a:br>
              <a:rPr sz="2800"/>
            </a:br>
            <a:r>
              <a:rPr b="0" lang="el-GR" sz="2800" spc="-1" strike="noStrike">
                <a:solidFill>
                  <a:srgbClr val="000000"/>
                </a:solidFill>
                <a:latin typeface="Times New Roman"/>
              </a:rPr>
              <a:t>σε κάθε μαθητή ώστε να ανταποκρίνεται </a:t>
            </a:r>
            <a:br>
              <a:rPr sz="2800"/>
            </a:br>
            <a:r>
              <a:rPr b="0" lang="el-GR" sz="2800" spc="-1" strike="noStrike">
                <a:solidFill>
                  <a:srgbClr val="000000"/>
                </a:solidFill>
                <a:latin typeface="Times New Roman"/>
              </a:rPr>
              <a:t>στην εκπαιδευτική διαδικασία </a:t>
            </a:r>
            <a:br>
              <a:rPr sz="2800"/>
            </a:br>
            <a:r>
              <a:rPr b="0" lang="el-GR" sz="2800" spc="-1" strike="noStrike">
                <a:solidFill>
                  <a:srgbClr val="000000"/>
                </a:solidFill>
                <a:latin typeface="Times New Roman"/>
              </a:rPr>
              <a:t>με τους δικούς του ρυθμούς, </a:t>
            </a:r>
            <a:br>
              <a:rPr sz="2800"/>
            </a:br>
            <a:r>
              <a:rPr b="0" lang="el-GR" sz="2800" spc="-1" strike="noStrike">
                <a:solidFill>
                  <a:srgbClr val="000000"/>
                </a:solidFill>
                <a:latin typeface="Times New Roman"/>
              </a:rPr>
              <a:t>ανάλογα με τις ιδιαιτερότητες και τα ταλέντα του.</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κουλτούρα μεγιστοποιεί την αφοσίωση των εκπαιδευτικών και όλων όσων εργάζονται στην σχολική μονάδα συμβάλλει στη δημιουργία τρόπων συμπεριφοράς και, τέλος, αυξάνει τη σταθερότητα στο σύστημα του σχολείου </a:t>
            </a:r>
            <a:br>
              <a:rPr sz="2800"/>
            </a:br>
            <a:r>
              <a:rPr b="0" lang="el-GR" sz="2800" spc="-1" strike="noStrike">
                <a:solidFill>
                  <a:srgbClr val="000000"/>
                </a:solidFill>
                <a:latin typeface="Times New Roman"/>
              </a:rPr>
              <a:t>(Κυθραιώτης, Δημητρίου, &amp;, Αντωνίου, 2010).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επιδιώκεται  όλοι οι  μαθητές </a:t>
            </a:r>
            <a:br>
              <a:rPr sz="2800"/>
            </a:br>
            <a:r>
              <a:rPr b="0" lang="el-GR" sz="2800" spc="-1" strike="noStrike">
                <a:solidFill>
                  <a:srgbClr val="000000"/>
                </a:solidFill>
                <a:latin typeface="Times New Roman"/>
              </a:rPr>
              <a:t>να αξιοποιήσουν στο μέγιστο βαθμό τις δυνατότητες τους, ενώ οι μαθητές με ειδικές εκπαιδευτικές ανάγκες λαμβάνουν δημιουργική και ουσιαστική υποστήριξη από το εκπαιδευτικό προσωπικό. </a:t>
            </a:r>
            <a:br>
              <a:rPr sz="20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την ανάπτυξη </a:t>
            </a:r>
            <a:r>
              <a:rPr b="1" lang="el-GR" sz="2800" spc="-1" strike="noStrike">
                <a:solidFill>
                  <a:srgbClr val="000000"/>
                </a:solidFill>
                <a:latin typeface="Times New Roman"/>
              </a:rPr>
              <a:t>της εναλλακτικής κουλτούρας </a:t>
            </a:r>
            <a:r>
              <a:rPr b="0" lang="el-GR" sz="2800" spc="-1" strike="noStrike">
                <a:solidFill>
                  <a:srgbClr val="000000"/>
                </a:solidFill>
                <a:latin typeface="Times New Roman"/>
              </a:rPr>
              <a:t>μπορεί να προαχθεί η</a:t>
            </a:r>
            <a:br>
              <a:rPr sz="2800"/>
            </a:br>
            <a:r>
              <a:rPr b="0" lang="el-GR" sz="2800" spc="-1" strike="noStrike">
                <a:solidFill>
                  <a:srgbClr val="000000"/>
                </a:solidFill>
                <a:latin typeface="Times New Roman"/>
              </a:rPr>
              <a:t>κοινωνική διάσταση της ένταξης μέσα σε ένα πλαίσιο σεβασμού και αποδοχής όλων των</a:t>
            </a:r>
            <a:br>
              <a:rPr sz="2800"/>
            </a:br>
            <a:r>
              <a:rPr b="0" lang="el-GR" sz="2800" spc="-1" strike="noStrike">
                <a:solidFill>
                  <a:srgbClr val="000000"/>
                </a:solidFill>
                <a:latin typeface="Times New Roman"/>
              </a:rPr>
              <a:t>μαθητών και των εκπαιδευτικών.</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a:t>
            </a:r>
            <a:br>
              <a:rPr sz="2800"/>
            </a:br>
            <a:r>
              <a:rPr b="0" lang="el-GR" sz="2800" spc="-1" strike="noStrike">
                <a:solidFill>
                  <a:srgbClr val="000000"/>
                </a:solidFill>
                <a:latin typeface="Times New Roman"/>
              </a:rPr>
              <a:t>στο σχολείο, όπου κυρίαρχη </a:t>
            </a:r>
            <a:br>
              <a:rPr sz="2800"/>
            </a:br>
            <a:r>
              <a:rPr b="0" lang="el-GR" sz="2800" spc="-1" strike="noStrike">
                <a:solidFill>
                  <a:srgbClr val="000000"/>
                </a:solidFill>
                <a:latin typeface="Times New Roman"/>
              </a:rPr>
              <a:t>είναι η εναλλακτική κουλτούρα</a:t>
            </a:r>
            <a:br>
              <a:rPr sz="2800"/>
            </a:br>
            <a:r>
              <a:rPr b="0" lang="el-GR" sz="2800" spc="-1" strike="noStrike">
                <a:solidFill>
                  <a:srgbClr val="000000"/>
                </a:solidFill>
                <a:latin typeface="Times New Roman"/>
              </a:rPr>
              <a:t>παρέχονται ευκαιρίες σε εκπαιδευτικούς, μαθητές αλλά και σε ολόκληρη τη σχολική κοινότητα</a:t>
            </a:r>
            <a:br>
              <a:rPr sz="2800"/>
            </a:br>
            <a:r>
              <a:rPr b="0" lang="el-GR" sz="2800" spc="-1" strike="noStrike">
                <a:solidFill>
                  <a:srgbClr val="000000"/>
                </a:solidFill>
                <a:latin typeface="Times New Roman"/>
              </a:rPr>
              <a:t>να συνεργαστούν, να επιλύσουν προβλήματα και να αναπτυχθεί ο σεβασμός του ενός για</a:t>
            </a:r>
            <a:br>
              <a:rPr sz="2800"/>
            </a:br>
            <a:r>
              <a:rPr b="0" lang="el-GR" sz="2800" spc="-1" strike="noStrike">
                <a:solidFill>
                  <a:srgbClr val="000000"/>
                </a:solidFill>
                <a:latin typeface="Times New Roman"/>
              </a:rPr>
              <a:t>τον άλλο, δημιουργώντας νέες δυνατότητες και προοπτικές.</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τέτοια προσέγγιση </a:t>
            </a:r>
            <a:br>
              <a:rPr sz="2800"/>
            </a:br>
            <a:r>
              <a:rPr b="0" lang="el-GR" sz="2800" spc="-1" strike="noStrike">
                <a:solidFill>
                  <a:srgbClr val="000000"/>
                </a:solidFill>
                <a:latin typeface="Times New Roman"/>
              </a:rPr>
              <a:t>απαιτεί ουσιαστική ανακατασκευή και </a:t>
            </a:r>
            <a:br>
              <a:rPr sz="2800"/>
            </a:br>
            <a:r>
              <a:rPr b="0" lang="el-GR" sz="2800" spc="-1" strike="noStrike">
                <a:solidFill>
                  <a:srgbClr val="000000"/>
                </a:solidFill>
                <a:latin typeface="Times New Roman"/>
              </a:rPr>
              <a:t>αναδόμηση των υπαρχουσών</a:t>
            </a:r>
            <a:br>
              <a:rPr sz="2800"/>
            </a:br>
            <a:r>
              <a:rPr b="0" lang="el-GR" sz="2800" spc="-1" strike="noStrike">
                <a:solidFill>
                  <a:srgbClr val="000000"/>
                </a:solidFill>
                <a:latin typeface="Times New Roman"/>
              </a:rPr>
              <a:t>σχέσεων, αντιλήψεων και πρακτικών.</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το σχολείο έχει ως προτεραιότητα να</a:t>
            </a:r>
            <a:br>
              <a:rPr sz="2800"/>
            </a:br>
            <a:r>
              <a:rPr b="0" lang="el-GR" sz="2800" spc="-1" strike="noStrike">
                <a:solidFill>
                  <a:srgbClr val="000000"/>
                </a:solidFill>
                <a:latin typeface="Times New Roman"/>
              </a:rPr>
              <a:t>ετοιμάζει τον μαθητή για την ενεργό σχολική του συμμετοχή, τον καλεί να συμμετέχει</a:t>
            </a:r>
            <a:br>
              <a:rPr sz="2800"/>
            </a:br>
            <a:r>
              <a:rPr b="0" lang="el-GR" sz="2800" spc="-1" strike="noStrike">
                <a:solidFill>
                  <a:srgbClr val="000000"/>
                </a:solidFill>
                <a:latin typeface="Times New Roman"/>
              </a:rPr>
              <a:t>στη σχολική καθημερινότητα, να επικοινωνεί, να σχεδιάζει, να οργανώνει και να</a:t>
            </a:r>
            <a:br>
              <a:rPr sz="2800"/>
            </a:br>
            <a:r>
              <a:rPr b="0" lang="el-GR" sz="2800" spc="-1" strike="noStrike">
                <a:solidFill>
                  <a:srgbClr val="000000"/>
                </a:solidFill>
                <a:latin typeface="Times New Roman"/>
              </a:rPr>
              <a:t>προτείνει τόσο σε ατομικό όσο και σε ομαδικό επίπεδο .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χουν καταγραφεί(στη βιβλιογραφία) και αναφερθεί </a:t>
            </a:r>
            <a:br>
              <a:rPr sz="2800"/>
            </a:br>
            <a:r>
              <a:rPr b="0" lang="el-GR" sz="2800" spc="-1" strike="noStrike">
                <a:solidFill>
                  <a:srgbClr val="000000"/>
                </a:solidFill>
                <a:latin typeface="Times New Roman"/>
              </a:rPr>
              <a:t>τρεις αρχές απαραίτητες για τη εγκαθίδρυση της σχολικής κουλτούρας που</a:t>
            </a:r>
            <a:br>
              <a:rPr sz="2800"/>
            </a:br>
            <a:r>
              <a:rPr b="0" lang="el-GR" sz="2800" spc="-1" strike="noStrike">
                <a:solidFill>
                  <a:srgbClr val="000000"/>
                </a:solidFill>
                <a:latin typeface="Times New Roman"/>
              </a:rPr>
              <a:t>προωθεί την κοινωνική ένταξη των μαθητών με αναπηρία εντός του σχολικού πλαισίου:</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η δέσμευση των εμπλεκομένων στις αρχές της ένταξης που αντανακλάται στις καθημερινές πρακτικές του.</a:t>
            </a:r>
            <a:br>
              <a:rPr sz="2800"/>
            </a:br>
            <a:br>
              <a:rPr sz="2800"/>
            </a:br>
            <a:r>
              <a:rPr b="0" lang="el-GR" sz="2800" spc="-1" strike="noStrike">
                <a:solidFill>
                  <a:srgbClr val="000000"/>
                </a:solidFill>
                <a:latin typeface="Times New Roman"/>
              </a:rPr>
              <a:t> β) η εστίαση στις διαφορετικές ανάγκες των μαθητών που</a:t>
            </a:r>
            <a:br>
              <a:rPr sz="2800"/>
            </a:br>
            <a:r>
              <a:rPr b="0" lang="el-GR" sz="2800" spc="-1" strike="noStrike">
                <a:solidFill>
                  <a:srgbClr val="000000"/>
                </a:solidFill>
                <a:latin typeface="Times New Roman"/>
              </a:rPr>
              <a:t>επιχειρείται με ευέλικτα προγράμματα σπουδών, καινοτόμα και προσαρμοσμένα στο</a:t>
            </a:r>
            <a:br>
              <a:rPr sz="2800"/>
            </a:br>
            <a:r>
              <a:rPr b="0" lang="el-GR" sz="2800" spc="-1" strike="noStrike">
                <a:solidFill>
                  <a:srgbClr val="000000"/>
                </a:solidFill>
                <a:latin typeface="Times New Roman"/>
              </a:rPr>
              <a:t>δυναμικό της κάθε τάξης, τα οποία προάγουν την αίσθηση   της συνεργασίας και το ομαδικό πνεύμα και </a:t>
            </a:r>
            <a:br>
              <a:rPr sz="2800"/>
            </a:b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η εστίαση όχι μόνο στη γνωστική αλλά και</a:t>
            </a:r>
            <a:br>
              <a:rPr sz="2800"/>
            </a:br>
            <a:r>
              <a:rPr b="0" lang="el-GR" sz="2800" spc="-1" strike="noStrike">
                <a:solidFill>
                  <a:srgbClr val="000000"/>
                </a:solidFill>
                <a:latin typeface="Times New Roman"/>
              </a:rPr>
              <a:t>στην κοινωνική και συναισθηματική ανάπτυξη των μαθητών.</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250920" y="1052640"/>
            <a:ext cx="8208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σημαντικό να δίνεται </a:t>
            </a:r>
            <a:br>
              <a:rPr sz="2800"/>
            </a:br>
            <a:r>
              <a:rPr b="0" lang="el-GR" sz="2800" spc="-1" strike="noStrike">
                <a:solidFill>
                  <a:srgbClr val="000000"/>
                </a:solidFill>
                <a:latin typeface="Times New Roman"/>
              </a:rPr>
              <a:t>η δυνατότητα σε κάθε σχολείο </a:t>
            </a:r>
            <a:br>
              <a:rPr sz="2800"/>
            </a:br>
            <a:r>
              <a:rPr b="0" lang="el-GR" sz="2800" spc="-1" strike="noStrike">
                <a:solidFill>
                  <a:srgbClr val="000000"/>
                </a:solidFill>
                <a:latin typeface="Times New Roman"/>
              </a:rPr>
              <a:t>να αναπτύξει δικούς του ρυθμούς </a:t>
            </a:r>
            <a:br>
              <a:rPr sz="2800"/>
            </a:br>
            <a:r>
              <a:rPr b="0" lang="el-GR" sz="2800" spc="-1" strike="noStrike">
                <a:solidFill>
                  <a:srgbClr val="000000"/>
                </a:solidFill>
                <a:latin typeface="Times New Roman"/>
              </a:rPr>
              <a:t>και τους δικούς του κώδικες επικοινωνίας </a:t>
            </a:r>
            <a:br>
              <a:rPr sz="2800"/>
            </a:br>
            <a:r>
              <a:rPr b="0" lang="el-GR" sz="2800" spc="-1" strike="noStrike">
                <a:solidFill>
                  <a:srgbClr val="000000"/>
                </a:solidFill>
                <a:latin typeface="Times New Roman"/>
              </a:rPr>
              <a:t>με τους μαθητές και τους γονείς.</a:t>
            </a:r>
            <a:br>
              <a:rPr sz="2800"/>
            </a:br>
            <a:br>
              <a:rPr sz="2800"/>
            </a:b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ίπεδα κουλτούρας </a:t>
            </a:r>
            <a:br>
              <a:rPr sz="2800"/>
            </a:br>
            <a:br>
              <a:rPr sz="2800"/>
            </a:br>
            <a:r>
              <a:rPr b="0" lang="el-GR" sz="2800" spc="-1" strike="noStrike">
                <a:solidFill>
                  <a:srgbClr val="000000"/>
                </a:solidFill>
                <a:latin typeface="Times New Roman"/>
              </a:rPr>
              <a:t>Σύμφωνα με τον Schein (1985), υπάρχουν </a:t>
            </a:r>
            <a:br>
              <a:rPr sz="2800"/>
            </a:br>
            <a:r>
              <a:rPr b="0" lang="el-GR" sz="2800" spc="-1" strike="noStrike">
                <a:solidFill>
                  <a:srgbClr val="000000"/>
                </a:solidFill>
                <a:latin typeface="Times New Roman"/>
              </a:rPr>
              <a:t>τρία επίπεδα κουλτούρας. </a:t>
            </a:r>
            <a:br>
              <a:rPr sz="2800"/>
            </a:br>
            <a:r>
              <a:rPr b="1" lang="el-GR" sz="2800" spc="-1" strike="noStrike">
                <a:solidFill>
                  <a:srgbClr val="000000"/>
                </a:solidFill>
                <a:latin typeface="Times New Roman"/>
              </a:rPr>
              <a:t>Το πρώτο επίπεδο της κουλτούρας περιλαμβάνει ορατά χαρακτηριστικά του φυσικού περιβάλλοντος του οργανισμού (artifacts), αλλά και νόρμες συμπεριφοράς (norms), </a:t>
            </a:r>
            <a:r>
              <a:rPr b="0" lang="el-GR" sz="2800" spc="-1" strike="noStrike">
                <a:solidFill>
                  <a:srgbClr val="000000"/>
                </a:solidFill>
                <a:latin typeface="Times New Roman"/>
              </a:rPr>
              <a:t>που βοηθούν τα άτομα σε έναν οργανισμό να αντιληφθούν τις διάφορες πλευρές της ζωής και της λειτουργίας του οργανισμού .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907920"/>
            <a:ext cx="842472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Αθανασούλα-Ρέππα (1999) </a:t>
            </a:r>
            <a:br>
              <a:rPr sz="2800"/>
            </a:br>
            <a:r>
              <a:rPr b="0" lang="el-GR" sz="2800" spc="-1" strike="noStrike">
                <a:solidFill>
                  <a:srgbClr val="000000"/>
                </a:solidFill>
                <a:latin typeface="Times New Roman"/>
              </a:rPr>
              <a:t>η κουλτούρα σε ένα σχολικό πλαίσιο μπορεί :</a:t>
            </a:r>
            <a:br>
              <a:rPr sz="2800"/>
            </a:br>
            <a:r>
              <a:rPr b="0" i="1" lang="el-GR" sz="2800" spc="-1" strike="noStrike">
                <a:solidFill>
                  <a:srgbClr val="000000"/>
                </a:solidFill>
                <a:latin typeface="Times New Roman"/>
              </a:rPr>
              <a:t>να δημιουργεί μια θετική προδιάθεση ή μια απώθηση, </a:t>
            </a:r>
            <a:br>
              <a:rPr sz="2800"/>
            </a:br>
            <a:r>
              <a:rPr b="0" i="1" lang="el-GR" sz="2800" spc="-1" strike="noStrike">
                <a:solidFill>
                  <a:srgbClr val="000000"/>
                </a:solidFill>
                <a:latin typeface="Times New Roman"/>
              </a:rPr>
              <a:t>να αντανακλά το αίσθημα της δημιουργίας </a:t>
            </a:r>
            <a:br>
              <a:rPr sz="2800"/>
            </a:br>
            <a:r>
              <a:rPr b="0" i="1" lang="el-GR" sz="2800" spc="-1" strike="noStrike">
                <a:solidFill>
                  <a:srgbClr val="000000"/>
                </a:solidFill>
                <a:latin typeface="Times New Roman"/>
              </a:rPr>
              <a:t>και της καινοτομίας </a:t>
            </a:r>
            <a:br>
              <a:rPr sz="2800"/>
            </a:br>
            <a:r>
              <a:rPr b="0" i="1" lang="el-GR" sz="2800" spc="-1" strike="noStrike">
                <a:solidFill>
                  <a:srgbClr val="000000"/>
                </a:solidFill>
                <a:latin typeface="Times New Roman"/>
              </a:rPr>
              <a:t>ή της παρακμής και της φθοράς, </a:t>
            </a:r>
            <a:br>
              <a:rPr sz="2800"/>
            </a:br>
            <a:r>
              <a:rPr b="0" i="1" lang="el-GR" sz="2800" spc="-1" strike="noStrike">
                <a:solidFill>
                  <a:srgbClr val="000000"/>
                </a:solidFill>
                <a:latin typeface="Times New Roman"/>
              </a:rPr>
              <a:t>να αποπνέει μία αίσθηση διαρκούς ετοιμότητας και αμοιβαίου σεβασμού </a:t>
            </a:r>
            <a:br>
              <a:rPr sz="2800"/>
            </a:br>
            <a:r>
              <a:rPr b="0" i="1" lang="el-GR" sz="2800" spc="-1" strike="noStrike">
                <a:solidFill>
                  <a:srgbClr val="000000"/>
                </a:solidFill>
                <a:latin typeface="Times New Roman"/>
              </a:rPr>
              <a:t>ή στασιμότητα και αδιαφορία μεταξύ των μελών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δείγματα οπτικών ή υλικών μέσων μπορεί να είναι η αρχιτεκτονική του κτιρίου, ο εξοπλισμός, η στολή (Ράπτη &amp; Βιτσιλάκη, 2007). Η διάσταση των οπτικών μέσων ονομάζεται και εξωτερική διάσταση της κουλτούρας, η οποία δημιουργεί μια υλική και αισθητική ταυτότητα του χώρου (Ρες, 2007). Σαφέστατα τα πρότυπα μπορεί να είναι η υποστήριξη προς τους συναδέλφους ή μη κριτική προς τον διευθυντή, η γνωριμία με νέους συναδέλφους, </a:t>
            </a:r>
            <a:br>
              <a:rPr sz="2800"/>
            </a:br>
            <a:r>
              <a:rPr b="0" lang="el-GR" sz="2800" spc="-1" strike="noStrike">
                <a:solidFill>
                  <a:srgbClr val="000000"/>
                </a:solidFill>
                <a:latin typeface="Times New Roman"/>
              </a:rPr>
              <a:t>ο χειρισμός προβλημάτων πειθαρχίας, </a:t>
            </a:r>
            <a:br>
              <a:rPr sz="2800"/>
            </a:br>
            <a:r>
              <a:rPr b="0" lang="el-GR" sz="2800" spc="-1" strike="noStrike">
                <a:solidFill>
                  <a:srgbClr val="000000"/>
                </a:solidFill>
                <a:latin typeface="Times New Roman"/>
              </a:rPr>
              <a:t>η βοήθεια προς τους μαθητές κ.ά.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δεύτερο επίπεδο τοποθετείται ένα σύστημα κοινών αξιών που θα μπορούσαν να χαρακτηριστούν ως οι επιδιώξεις του οργανισμού</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ι αξίες (values) αποτελούν αιτιολόγηση των συμπεριφορών που παρουσιάζουν τα μέλη του οργανισμού στο πιο επιφανειακό πρώτο επίπεδο . Άρα οι αξίες είναι οι στρατηγικές, οι στόχοι και οι φιλοσοφίες σύμφωνα με τις επιθυμίες των μελών του οργανισμού, που βρίσκονται σε ένα λιγότερο και επιφανειακό επίπεδο.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ύπαρξη κοινών αξιών, όπως συνεργασία, εμπιστοσύνη, ομαδική εργασία, ειλικρίνεια, οικειότητα, έλεγχος κ.λπ., επηρεάζουν τη συμπεριφορά των μελών σε ένα σχολικό φορέα, τα οποία γνωρίζοντας τι είναι επιθυμητό προσπαθούν να μετασχηματίζουν τις αξίες σε νόρμες συμπεριφορά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βαθύτερο και πιο αφηρημένο τρίτο επίπεδο </a:t>
            </a:r>
            <a:r>
              <a:rPr b="0" lang="el-GR" sz="2800" spc="-1" strike="noStrike">
                <a:solidFill>
                  <a:srgbClr val="000000"/>
                </a:solidFill>
                <a:latin typeface="Times New Roman"/>
              </a:rPr>
              <a:t>βρίσκονται οι μη συνειδητές, αφηρημένες πεποιθήσεις, αντιλήψεις, σκέψεις και αισθήματα των μελών του οργανισμού, που σχετίζονται με την ανθρώπινη φύση, </a:t>
            </a:r>
            <a:br>
              <a:rPr sz="2800"/>
            </a:br>
            <a:r>
              <a:rPr b="0" lang="el-GR" sz="2800" spc="-1" strike="noStrike">
                <a:solidFill>
                  <a:srgbClr val="000000"/>
                </a:solidFill>
                <a:latin typeface="Times New Roman"/>
              </a:rPr>
              <a:t>τις ανθρώπινες σχέσεις, την αλήθεια και το περιβάλλον.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ό το επίπεδο βρίσκεται η ουσία της κουλτούρας. </a:t>
            </a:r>
            <a:br>
              <a:rPr sz="2800"/>
            </a:br>
            <a:r>
              <a:rPr b="0" lang="el-GR" sz="2800" spc="-1" strike="noStrike">
                <a:solidFill>
                  <a:srgbClr val="000000"/>
                </a:solidFill>
                <a:latin typeface="Times New Roman"/>
              </a:rPr>
              <a:t>Η εσωτερική διάσταση της κουλτούρας που αφορά τις ανθρώπινες σχέσεις, αλλά και το πώς ακριβώς αντιλαμβάνεται η μονάδα τον εαυτό της και διαμορφώνει αυτό που τελικά γίνεται η ίδια και αυτό που εκπροσωπεί </a:t>
            </a:r>
            <a:br>
              <a:rPr sz="2800"/>
            </a:br>
            <a:r>
              <a:rPr b="0" lang="el-GR" sz="2800" spc="-1" strike="noStrike">
                <a:solidFill>
                  <a:srgbClr val="000000"/>
                </a:solidFill>
                <a:latin typeface="Times New Roman"/>
              </a:rPr>
              <a:t>για τις άλλες (Ρες, 2007).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μίας σχολικής μονάδας αυτές οι αρχές είναι </a:t>
            </a:r>
            <a:br>
              <a:rPr sz="2800"/>
            </a:br>
            <a:r>
              <a:rPr b="0" lang="el-GR" sz="2800" spc="-1" strike="noStrike">
                <a:solidFill>
                  <a:srgbClr val="000000"/>
                </a:solidFill>
                <a:latin typeface="Times New Roman"/>
              </a:rPr>
              <a:t>η καλλιέργεια της ενθάρρυνσης, </a:t>
            </a:r>
            <a:br>
              <a:rPr sz="2800"/>
            </a:br>
            <a:r>
              <a:rPr b="0" lang="el-GR" sz="2800" spc="-1" strike="noStrike">
                <a:solidFill>
                  <a:srgbClr val="000000"/>
                </a:solidFill>
                <a:latin typeface="Times New Roman"/>
              </a:rPr>
              <a:t>της  παρότρυνσης για ομαδική εργασία, </a:t>
            </a:r>
            <a:br>
              <a:rPr sz="2800"/>
            </a:br>
            <a:r>
              <a:rPr b="0" lang="el-GR" sz="2800" spc="-1" strike="noStrike">
                <a:solidFill>
                  <a:srgbClr val="000000"/>
                </a:solidFill>
                <a:latin typeface="Times New Roman"/>
              </a:rPr>
              <a:t>της υπευθυνότητας, της εμπιστοσύνης, </a:t>
            </a:r>
            <a:br>
              <a:rPr sz="2800"/>
            </a:br>
            <a:r>
              <a:rPr b="0" lang="el-GR" sz="2800" spc="-1" strike="noStrike">
                <a:solidFill>
                  <a:srgbClr val="000000"/>
                </a:solidFill>
                <a:latin typeface="Times New Roman"/>
              </a:rPr>
              <a:t>του επαγγελματικού, </a:t>
            </a:r>
            <a:br>
              <a:rPr sz="2800"/>
            </a:br>
            <a:r>
              <a:rPr b="0" lang="el-GR" sz="2800" spc="-1" strike="noStrike">
                <a:solidFill>
                  <a:srgbClr val="000000"/>
                </a:solidFill>
                <a:latin typeface="Times New Roman"/>
              </a:rPr>
              <a:t>οι σχέσεις των εκπαιδευτικών, κλπ </a:t>
            </a:r>
            <a:br>
              <a:rPr sz="2800"/>
            </a:br>
            <a:r>
              <a:rPr b="0" lang="el-GR" sz="2800" spc="-1" strike="noStrike">
                <a:solidFill>
                  <a:srgbClr val="000000"/>
                </a:solidFill>
                <a:latin typeface="Times New Roman"/>
              </a:rPr>
              <a:t>Αυτές οι αρχές συμβάλλουν ώστε να ενθαρρυνθεί η καλλιέργεια αξιών όπως είναι η αποφυγή των συγκρούσεων και ο σεβασμός απέναντι στην ηγεσία.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μπερασματικά, δύνανται να διακριθούν τρία επίπεδα της σχολικής κουλτούρας: </a:t>
            </a:r>
            <a:br>
              <a:rPr sz="2800"/>
            </a:br>
            <a:br>
              <a:rPr sz="2800"/>
            </a:br>
            <a:r>
              <a:rPr b="1" lang="el-GR" sz="2800" spc="-1" strike="noStrike">
                <a:solidFill>
                  <a:srgbClr val="000000"/>
                </a:solidFill>
                <a:latin typeface="Times New Roman"/>
              </a:rPr>
              <a:t>1. οι άγραφοι και οι ανεπίσημοι κανόνες, </a:t>
            </a:r>
            <a:br>
              <a:rPr sz="2800"/>
            </a:br>
            <a:br>
              <a:rPr sz="2800"/>
            </a:br>
            <a:r>
              <a:rPr b="1" i="1" lang="el-GR" sz="2800" spc="-1" strike="noStrike">
                <a:solidFill>
                  <a:srgbClr val="000000"/>
                </a:solidFill>
                <a:latin typeface="Times New Roman"/>
              </a:rPr>
              <a:t>2. οι αξίες και οι πεποιθήσεις και </a:t>
            </a:r>
            <a:br>
              <a:rPr sz="2800"/>
            </a:br>
            <a:r>
              <a:rPr b="1" i="1" lang="el-GR" sz="2800" spc="-1" strike="noStrike">
                <a:solidFill>
                  <a:srgbClr val="000000"/>
                </a:solidFill>
                <a:latin typeface="Times New Roman"/>
              </a:rPr>
              <a:t>3. οι αντιλήψεις σχετικά με το τι είναι αλήθεια (Κυθραιώτης κ. συν., 2010).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ύποι Κουλτούρας </a:t>
            </a:r>
            <a:br>
              <a:rPr sz="2800"/>
            </a:br>
            <a:br>
              <a:rPr sz="2800"/>
            </a:br>
            <a:r>
              <a:rPr b="0" lang="el-GR" sz="2800" spc="-1" strike="noStrike">
                <a:solidFill>
                  <a:srgbClr val="000000"/>
                </a:solidFill>
                <a:latin typeface="Times New Roman"/>
              </a:rPr>
              <a:t>Όπως επισημαίνουν οι Κιούση και Κοντάκος (2006) έχουν αναπτυχθεί διάφορες τυπολογίες για τη σχολική κουλτούρα. Πιο συγκεκριμένα, </a:t>
            </a:r>
            <a:r>
              <a:rPr b="1" lang="el-GR" sz="2800" spc="-1" strike="noStrike">
                <a:solidFill>
                  <a:srgbClr val="000000"/>
                </a:solidFill>
                <a:latin typeface="Times New Roman"/>
              </a:rPr>
              <a:t>στη βάση της οργανωσιακής κουλτούρας, </a:t>
            </a:r>
            <a:br>
              <a:rPr sz="2800"/>
            </a:br>
            <a:r>
              <a:rPr b="0" lang="el-GR" sz="2800" spc="-1" strike="noStrike">
                <a:solidFill>
                  <a:srgbClr val="000000"/>
                </a:solidFill>
                <a:latin typeface="Times New Roman"/>
              </a:rPr>
              <a:t>η σχολική κουλτούρα διακρίνεται </a:t>
            </a:r>
            <a:br>
              <a:rPr sz="2800"/>
            </a:br>
            <a:r>
              <a:rPr b="1" lang="el-GR" sz="2800" spc="-1" strike="noStrike">
                <a:solidFill>
                  <a:srgbClr val="000000"/>
                </a:solidFill>
                <a:latin typeface="Times New Roman"/>
              </a:rPr>
              <a:t>στην κουλτούρα της κεντρικής εξουσίας (club culture), </a:t>
            </a:r>
            <a:br>
              <a:rPr sz="2800"/>
            </a:br>
            <a:r>
              <a:rPr b="1" lang="el-GR" sz="2800" spc="-1" strike="noStrike">
                <a:solidFill>
                  <a:srgbClr val="000000"/>
                </a:solidFill>
                <a:latin typeface="Times New Roman"/>
              </a:rPr>
              <a:t>την κουλτούρα των ρόλων (role culture) </a:t>
            </a:r>
            <a:br>
              <a:rPr sz="2800"/>
            </a:br>
            <a:r>
              <a:rPr b="1" lang="el-GR" sz="2800" spc="-1" strike="noStrike">
                <a:solidFill>
                  <a:srgbClr val="000000"/>
                </a:solidFill>
                <a:latin typeface="Times New Roman"/>
              </a:rPr>
              <a:t>και την κουλτούρα του καθήκοντος - της αποστολής (task culture).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άση της αλλαγής και  της βελτίωσης </a:t>
            </a:r>
            <a:br>
              <a:rPr sz="2800"/>
            </a:br>
            <a:r>
              <a:rPr b="0" lang="el-GR" sz="2800" spc="-1" strike="noStrike">
                <a:solidFill>
                  <a:srgbClr val="000000"/>
                </a:solidFill>
                <a:latin typeface="Times New Roman"/>
              </a:rPr>
              <a:t>της σχολικής μονάδας και συνεπώς της αποτελεσματικότητάς της, </a:t>
            </a:r>
            <a:br>
              <a:rPr sz="2800"/>
            </a:br>
            <a:r>
              <a:rPr b="0" lang="el-GR" sz="2800" spc="-1" strike="noStrike">
                <a:solidFill>
                  <a:srgbClr val="000000"/>
                </a:solidFill>
                <a:latin typeface="Times New Roman"/>
              </a:rPr>
              <a:t>η σχολική κουλτούρα  διακρίνει τους σχολικούς οργανισμούς σε :</a:t>
            </a:r>
            <a:br>
              <a:rPr sz="2800"/>
            </a:br>
            <a:r>
              <a:rPr b="0" lang="el-GR" sz="2800" spc="-1" strike="noStrike">
                <a:solidFill>
                  <a:srgbClr val="000000"/>
                </a:solidFill>
                <a:latin typeface="Times New Roman"/>
              </a:rPr>
              <a:t>«εξελισσόμενους» (moving) και </a:t>
            </a:r>
            <a:br>
              <a:rPr sz="2800"/>
            </a:br>
            <a:r>
              <a:rPr b="0" lang="el-GR" sz="2800" spc="-1" strike="noStrike">
                <a:solidFill>
                  <a:srgbClr val="000000"/>
                </a:solidFill>
                <a:latin typeface="Times New Roman"/>
              </a:rPr>
              <a:t>«μη εξελισσόμενους» (stuck),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  μοντέλο οι σχολικές μονάδες βάσει της σχολικής κουλτούρας χωρίζονται </a:t>
            </a:r>
            <a:br>
              <a:rPr sz="2800"/>
            </a:br>
            <a:r>
              <a:rPr b="0" lang="el-GR" sz="2800" spc="-1" strike="noStrike">
                <a:solidFill>
                  <a:srgbClr val="000000"/>
                </a:solidFill>
                <a:latin typeface="Times New Roman"/>
              </a:rPr>
              <a:t>στις «εξελισσόμενες» (moving), «του σχολείου που πορεύεται» (cruising), </a:t>
            </a:r>
            <a:br>
              <a:rPr sz="2800"/>
            </a:br>
            <a:r>
              <a:rPr b="0" lang="el-GR" sz="2800" spc="-1" strike="noStrike">
                <a:solidFill>
                  <a:srgbClr val="000000"/>
                </a:solidFill>
                <a:latin typeface="Times New Roman"/>
              </a:rPr>
              <a:t>«του σχολείου που αγωνίζεται να επιβιώσει» (struggling) και του «βυθιζόμενου» σχολείου (sinking σχολείο).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539640" y="1392120"/>
            <a:ext cx="842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Θεριανός (2006) αναφέρει ότι </a:t>
            </a:r>
            <a:br>
              <a:rPr sz="2800"/>
            </a:br>
            <a:r>
              <a:rPr b="0" lang="el-GR" sz="2800" spc="-1" strike="noStrike">
                <a:solidFill>
                  <a:srgbClr val="000000"/>
                </a:solidFill>
                <a:latin typeface="Times New Roman"/>
              </a:rPr>
              <a:t>υπάρχουν τρεις τύποι κουλτούρας: </a:t>
            </a:r>
            <a:br>
              <a:rPr sz="2800"/>
            </a:br>
            <a:r>
              <a:rPr b="0" lang="el-GR" sz="2800" spc="-1" strike="noStrike">
                <a:solidFill>
                  <a:srgbClr val="000000"/>
                </a:solidFill>
                <a:latin typeface="Times New Roman"/>
              </a:rPr>
              <a:t>ο ατομισμός, </a:t>
            </a:r>
            <a:br>
              <a:rPr sz="2800"/>
            </a:br>
            <a:r>
              <a:rPr b="0" lang="el-GR" sz="2800" spc="-1" strike="noStrike">
                <a:solidFill>
                  <a:srgbClr val="000000"/>
                </a:solidFill>
                <a:latin typeface="Times New Roman"/>
              </a:rPr>
              <a:t>η τεχνητή συναδελφικότητα και </a:t>
            </a:r>
            <a:br>
              <a:rPr sz="2800"/>
            </a:br>
            <a:r>
              <a:rPr b="0" lang="el-GR" sz="2800" spc="-1" strike="noStrike">
                <a:solidFill>
                  <a:srgbClr val="000000"/>
                </a:solidFill>
                <a:latin typeface="Times New Roman"/>
              </a:rPr>
              <a:t>η γνήσια συνεργασία.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Υποκουλτούρα </a:t>
            </a:r>
            <a:br>
              <a:rPr sz="2800"/>
            </a:br>
            <a:r>
              <a:rPr b="0" lang="el-GR" sz="2800" spc="-1" strike="noStrike">
                <a:solidFill>
                  <a:srgbClr val="000000"/>
                </a:solidFill>
                <a:latin typeface="Times New Roman"/>
              </a:rPr>
              <a:t>Σύμφωνα με  ερευνητές υπάρχει μεγάλο ενδιαφέρον στην ανίχνευση περισσότερων από μίας κουλτούρας σε έναν σχολικό οργανισμό, καθώς η ύπαρξη διαφόρων ομάδων, συνεπάγεται συνύπαρξη πολλών ειδών κουλτούρας στη σχολική μονάδα. </a:t>
            </a:r>
            <a:br>
              <a:rPr sz="2800"/>
            </a:br>
            <a:r>
              <a:rPr b="0" lang="el-GR" sz="2800" spc="-1" strike="noStrike">
                <a:solidFill>
                  <a:srgbClr val="000000"/>
                </a:solidFill>
                <a:latin typeface="Times New Roman"/>
              </a:rPr>
              <a:t>Ένας τρόπος διαχωρισμού γίνεται σύμφωνα με τις δύο βασικές ομάδες του σχολείου, τους εκπαιδευτικούς και τους μαθητές. .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υπάρχει η κουλτούρα των εκπαιδευτικών και η κουλτούρα των μαθητών. </a:t>
            </a:r>
            <a:br>
              <a:rPr sz="2800"/>
            </a:br>
            <a:r>
              <a:rPr b="0" lang="el-GR" sz="2800" spc="-1" strike="noStrike">
                <a:solidFill>
                  <a:srgbClr val="000000"/>
                </a:solidFill>
                <a:latin typeface="Times New Roman"/>
              </a:rPr>
              <a:t>Αυτές οι δύο ομάδες αντιπροσωπεύουν δύο διαφορετικές κουλτούρες, καθώς η κουλτούρα των εκπαιδευτικών είναι μια κουλτούρα εργασίας, ενώ αυτή των μαθητών είναι μια κουλτούρα μάθησης. Όμως, βασικό χαρακτηριστικό της γενικής κουλτούρας ενός σχολείου είναι ο βαθμός συνοχής μεταξύ των ξεχωριστών ειδών κουλτούρας. Όσο μεγαλύτερος είναι ο βαθμός συνοχής τους, τόσο πιο ισχυρή είναι η κουλτούρα του σχολείου.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με τις κουλτούρες των διαφόρων ομάδων, κάθε σχολείο αποτελείται από ένα ξεχωριστό αριθμό τάξεων – τμημάτων μαθητών, που διαμορφώνουν τη δική τους κουλτούρα μάθησης. Ο πυρήνας της κουλτούρας μάθησης στην τάξη και το σχολείο πρέπει να είναι ο σκοπός του σχολείου, ο οποίος καθορίζει σε μεγάλο βαθμό τους στόχους των μαθητών.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250920" y="1052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προώθηση τέτοιας  κουλτούρας προϋποθέτει τη συνεργασία του εκπαιδευτικού προσωπικού, των γονέων, του ειδικού  εκπαιδευτικού προσωπικού</a:t>
            </a:r>
            <a:br>
              <a:rPr sz="2800"/>
            </a:br>
            <a:r>
              <a:rPr b="0" lang="el-GR" sz="2800" spc="-1" strike="noStrike">
                <a:solidFill>
                  <a:srgbClr val="000000"/>
                </a:solidFill>
                <a:latin typeface="Times New Roman"/>
              </a:rPr>
              <a:t> και των σχολικών συμβούλων ώστε να</a:t>
            </a:r>
            <a:br>
              <a:rPr sz="2800"/>
            </a:br>
            <a:r>
              <a:rPr b="0" lang="el-GR" sz="2800" spc="-1" strike="noStrike">
                <a:solidFill>
                  <a:srgbClr val="000000"/>
                </a:solidFill>
                <a:latin typeface="Times New Roman"/>
              </a:rPr>
              <a:t>συνδιαμορφώνουν τις αντιλήψεις τους και τις εφαρμοζόμενες πρακτικές αναφορικά με</a:t>
            </a:r>
            <a:br>
              <a:rPr sz="2800"/>
            </a:br>
            <a:r>
              <a:rPr b="0" lang="el-GR" sz="2800" spc="-1" strike="noStrike">
                <a:solidFill>
                  <a:srgbClr val="000000"/>
                </a:solidFill>
                <a:latin typeface="Times New Roman"/>
              </a:rPr>
              <a:t>την εκπαίδευση των μαθητών με αναπηρία.</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σχολείο που δεν εστιάζει στις διαφορές ανάμεσα στους μαθητές</a:t>
            </a:r>
            <a:br>
              <a:rPr sz="2800"/>
            </a:br>
            <a:r>
              <a:rPr b="0" lang="el-GR" sz="2800" spc="-1" strike="noStrike">
                <a:solidFill>
                  <a:srgbClr val="000000"/>
                </a:solidFill>
                <a:latin typeface="Times New Roman"/>
              </a:rPr>
              <a:t>αλλά αναδεικνύει τις δημιουργικές πτυχές του καθενός, αποκτά τη δυνατότητα να</a:t>
            </a:r>
            <a:br>
              <a:rPr sz="2800"/>
            </a:br>
            <a:r>
              <a:rPr b="0" lang="el-GR" sz="2800" spc="-1" strike="noStrike">
                <a:solidFill>
                  <a:srgbClr val="000000"/>
                </a:solidFill>
                <a:latin typeface="Times New Roman"/>
              </a:rPr>
              <a:t>διαμορφώνει θετικά τις στάσεις απέναντι στους μαθητές με αναπηρία και άρα να προάγει την ουσιαστική ένταξή τους ενισχύοντας την κοινωνικοποίηση, την συνεργασία και τις</a:t>
            </a:r>
            <a:br>
              <a:rPr sz="2800"/>
            </a:br>
            <a:r>
              <a:rPr b="0" lang="el-GR" sz="2800" spc="-1" strike="noStrike">
                <a:solidFill>
                  <a:srgbClr val="000000"/>
                </a:solidFill>
                <a:latin typeface="Times New Roman"/>
              </a:rPr>
              <a:t>αυθεντικές σχέσεις μεταξύ όλων των παιδιών.</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16" name="" descr=""/>
          <p:cNvPicPr/>
          <p:nvPr/>
        </p:nvPicPr>
        <p:blipFill>
          <a:blip r:embed="rId1"/>
          <a:stretch/>
        </p:blipFill>
        <p:spPr>
          <a:xfrm>
            <a:off x="0" y="0"/>
            <a:ext cx="9144000" cy="1368360"/>
          </a:xfrm>
          <a:prstGeom prst="rect">
            <a:avLst/>
          </a:prstGeom>
          <a:ln w="0">
            <a:noFill/>
          </a:ln>
        </p:spPr>
      </p:pic>
      <p:pic>
        <p:nvPicPr>
          <p:cNvPr id="1217" name="" descr=""/>
          <p:cNvPicPr/>
          <p:nvPr/>
        </p:nvPicPr>
        <p:blipFill>
          <a:blip r:embed="rId2"/>
          <a:stretch/>
        </p:blipFill>
        <p:spPr>
          <a:xfrm>
            <a:off x="1258920" y="2060640"/>
            <a:ext cx="1297080" cy="1528560"/>
          </a:xfrm>
          <a:prstGeom prst="rect">
            <a:avLst/>
          </a:prstGeom>
          <a:ln w="0">
            <a:noFill/>
          </a:ln>
        </p:spPr>
      </p:pic>
      <p:pic>
        <p:nvPicPr>
          <p:cNvPr id="1218" name="" descr=""/>
          <p:cNvPicPr/>
          <p:nvPr/>
        </p:nvPicPr>
        <p:blipFill>
          <a:blip r:embed="rId3"/>
          <a:stretch/>
        </p:blipFill>
        <p:spPr>
          <a:xfrm>
            <a:off x="6948360" y="1989000"/>
            <a:ext cx="1444680" cy="1573200"/>
          </a:xfrm>
          <a:prstGeom prst="rect">
            <a:avLst/>
          </a:prstGeom>
          <a:ln w="0">
            <a:noFill/>
          </a:ln>
        </p:spPr>
      </p:pic>
      <p:sp>
        <p:nvSpPr>
          <p:cNvPr id="1219"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22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9640" y="1392120"/>
            <a:ext cx="842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ές ακριβώς οι πεποιθήσεις, οι αξίες και τα πιστεύω είναι που, κατά βάση, κρατούν ενωμένο τον σχολικό οργανισμό, δίνοντάς του μία κοινή ταυτότητα και συμβάλλοντας στη διαμόρφωση του χαρακτήρα του (Πασιαρδή, 2008).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148428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κουλτούρα διαφοροποιεί </a:t>
            </a:r>
            <a:br>
              <a:rPr sz="2800"/>
            </a:br>
            <a:r>
              <a:rPr b="0" i="1" lang="el-GR" sz="2800" spc="-1" strike="noStrike">
                <a:solidFill>
                  <a:srgbClr val="000000"/>
                </a:solidFill>
                <a:latin typeface="Times New Roman"/>
              </a:rPr>
              <a:t>το ένα σχολικό πλαίσιο από το άλλο, </a:t>
            </a:r>
            <a:br>
              <a:rPr sz="2800"/>
            </a:br>
            <a:r>
              <a:rPr b="0" i="1" lang="el-GR" sz="2800" spc="-1" strike="noStrike">
                <a:solidFill>
                  <a:srgbClr val="000000"/>
                </a:solidFill>
                <a:latin typeface="Times New Roman"/>
              </a:rPr>
              <a:t>δίνει την αίσθηση της ταυτότητας, </a:t>
            </a:r>
            <a:br>
              <a:rPr sz="2800"/>
            </a:br>
            <a:r>
              <a:rPr b="0" i="1" lang="el-GR" sz="2800" spc="-1" strike="noStrike">
                <a:solidFill>
                  <a:srgbClr val="000000"/>
                </a:solidFill>
                <a:latin typeface="Times New Roman"/>
              </a:rPr>
              <a:t>δημιουργεί συνθήκες ανάπτυξης αισθήματος δέσμευσης στο εκπαιδευτικό πλαίσιο, </a:t>
            </a:r>
            <a:br>
              <a:rPr sz="2800"/>
            </a:br>
            <a:r>
              <a:rPr b="0" i="1" lang="el-GR" sz="2800" spc="-1" strike="noStrike">
                <a:solidFill>
                  <a:srgbClr val="000000"/>
                </a:solidFill>
                <a:latin typeface="Times New Roman"/>
              </a:rPr>
              <a:t>ενδυναμώνει την σταθερότητά του, </a:t>
            </a:r>
            <a:br>
              <a:rPr sz="2800"/>
            </a:br>
            <a:r>
              <a:rPr b="0" i="1" lang="el-GR" sz="2800" spc="-1" strike="noStrike">
                <a:solidFill>
                  <a:srgbClr val="000000"/>
                </a:solidFill>
                <a:latin typeface="Times New Roman"/>
              </a:rPr>
              <a:t>δημιουργεί συνοχή και διαμορφώνει στάσεις και συμπεριφορές των μελών του.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9:08Z</dcterms:modified>
  <cp:revision>173</cp:revision>
  <dc:subject/>
  <dc:title>Παρουσίαση του PowerPoint</dc:title>
</cp:coreProperties>
</file>